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A35-78BE-457F-BE4B-6FC96DD9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529-E896-4982-9FEC-95953B2A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853-98F8-4AFF-B2FA-B3050551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1FD-4F68-478B-8D21-3A1B041A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95DB-75CD-4DB9-9CBC-3B5DFEF7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AD54-1074-4F55-8995-3417DD6E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5B27-06B6-42A3-BBB8-E88180C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944F-5287-4E46-B3E0-31F5921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8999-51B6-4F23-AD8C-4242E1C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0910-7113-48D6-A810-F301D41C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AC3A-3804-4095-B946-BD771026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C1A-9685-4BFD-9201-E1CBF955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F87D-0443-4C4B-A5FB-6584B1B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2E13-B26E-4F06-B176-9AE2D84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E476-3B5F-4BDE-92D1-13D5E76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590-5B15-446B-81E5-1114273C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A33-C83F-4D2A-A8DD-D8354E26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264-2676-48F6-8C08-ED11969D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772-B599-4C26-B7EE-62CA197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62B-AE56-4F6F-BC88-A846FAD6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ED1-B163-48A9-AF76-46E64FCA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DCC-C1F2-4C13-9FFD-F4EBA38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03E-3682-4C21-B220-BE7CE5A6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6CF-268E-4AC3-BFF0-54CD14B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40ED-C6DE-4011-A3CD-D4121FFF0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7C4A-4533-4CD0-A543-26D222B4A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How You Use Food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/10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at You Need for a Sandwich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sandwich you need two pieces of bread and something insid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6479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I Wanted to Know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macaroni and cheese good for you?  I predict that it depends on how old you are.  If you are young it’s OK for you, but if you’re old you might want just a little bit.  A small bowl filled with macaroni and chee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8006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A Poem About Macaroni and Chees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aroni and Che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aroni and cheese, Macaroni and chee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 that macaroni and chee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taste so extra g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aroni and cheese, Macaroni and chee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6483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rep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people eating crepes in the afternoon.  We did this for math.  I took this pictu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533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y Answer to the Question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s can have more macaroni and cheese than adul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Now I Know Th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all foods have fats in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Food is Importan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of vitamins and it keeps you alive. If you didn’t have any food you would d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8:40:51Z</dcterms:created>
  <dc:creator>Nancy Hertzog</dc:creator>
  <dc:description/>
  <dc:language>en-US</dc:language>
  <cp:lastModifiedBy>UIUC</cp:lastModifiedBy>
  <cp:lastPrinted>1904-01-01T00:00:00Z</cp:lastPrinted>
  <dcterms:modified xsi:type="dcterms:W3CDTF">2003-07-21T02:21:44Z</dcterms:modified>
  <cp:revision>8</cp:revision>
  <dc:subject/>
  <dc:title>How You Use Food</dc:title>
</cp:coreProperties>
</file>