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80A-AB80-4A2D-8BF1-B31B059E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370-1C1C-4F3F-9818-E6B3A0A5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5F9-DCCE-4B8B-814B-17FB898C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A4F-2252-4000-9C5A-251C7F97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4AD9-B75A-4114-948D-9A785EF0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1622-9A7A-4820-B657-2E9D59CA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D56F-4707-484E-ABC8-785F6EEB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A8C2-2218-4A33-A55D-901D8128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F699-19C6-458E-B29D-B5D02884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F247-F09E-4500-BCFA-F04D42B9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B687-CBB7-4831-9DDF-B77FA3A0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A61-3C71-4CB2-8ADC-6AC27465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C40A-4B78-4E9D-AE48-7672FFA8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D903-D370-46E4-8DDE-6CAC0602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6E94-9C2C-42EE-BC56-9919DF98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EC62-86B1-4948-B581-F58B05A2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BDC5-F148-4004-903A-4A5EC54A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69C-4F13-48DA-90DE-BF6C8940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BEC-1D97-4FEB-B891-946A824D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EA3-AAEA-4933-ADC4-9A004788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EF0-F35F-4B54-A949-501E603E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C06-DD9A-471E-90DE-04033229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E9D-0AB1-47E6-87DC-9433D997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599-371B-4C73-9F7D-83E4F10F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242360 w 4191120"/>
                  <a:gd name="textAreaRight" fmla="*/ 2948760 w 4191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220040 w 4114800"/>
                  <a:gd name="textAreaRight" fmla="*/ 2894760 w 411480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FF55-9CF3-4755-A1FE-66337A563D75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6320" y="1066680"/>
            <a:ext cx="8991360" cy="4496040"/>
            <a:chOff x="76320" y="1066680"/>
            <a:chExt cx="8991360" cy="4496040"/>
          </a:xfrm>
        </p:grpSpPr>
        <p:grpSp>
          <p:nvGrpSpPr>
            <p:cNvPr id="61" name=""/>
            <p:cNvGrpSpPr/>
            <p:nvPr/>
          </p:nvGrpSpPr>
          <p:grpSpPr>
            <a:xfrm>
              <a:off x="152280" y="1218960"/>
              <a:ext cx="8839440" cy="4115160"/>
              <a:chOff x="152280" y="1218960"/>
              <a:chExt cx="8839440" cy="4115160"/>
            </a:xfrm>
          </p:grpSpPr>
          <p:sp>
            <p:nvSpPr>
              <p:cNvPr id="62" name=""/>
              <p:cNvSpPr/>
              <p:nvPr/>
            </p:nvSpPr>
            <p:spPr>
              <a:xfrm>
                <a:off x="304920" y="1371600"/>
                <a:ext cx="8534160" cy="3809880"/>
              </a:xfrm>
              <a:custGeom>
                <a:avLst/>
                <a:gdLst>
                  <a:gd name="textAreaLeft" fmla="*/ 205560 w 8534160"/>
                  <a:gd name="textAreaRight" fmla="*/ 8328600 w 8534160"/>
                  <a:gd name="textAreaTop" fmla="*/ 205560 h 3809880"/>
                  <a:gd name="textAreaBottom" fmla="*/ 3604320 h 3809880"/>
                </a:gdLst>
                <a:ahLst/>
                <a:rect l="textAreaLeft" t="textAreaTop" r="textAreaRight" b="textAreaBottom"/>
                <a:pathLst>
                  <a:path w="48382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46732" y="21600"/>
                    </a:lnTo>
                    <a:arcTo wR="1650" hR="1650" stAng="10800000" swAng="5400000"/>
                    <a:lnTo>
                      <a:pt x="48382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-1333440" y="323820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38080" y="5181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7353000" y="323784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6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7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320" y="4800600"/>
              <a:ext cx="761760" cy="762120"/>
              <a:chOff x="76320" y="4800600"/>
              <a:chExt cx="76176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632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228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8229600" y="4800600"/>
              <a:ext cx="761760" cy="762120"/>
              <a:chOff x="8229600" y="4800600"/>
              <a:chExt cx="76176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822960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5820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438280" y="624816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1F2D-771A-4CAE-8D38-AEF17716D226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0000"/>
                </a:solidFill>
                <a:latin typeface="Arial"/>
              </a:rPr>
              <a:t>This is What I Learned about Food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2/9/0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reakfast Food in the Beginning of the Projec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is cinnamon toast crunch.  It is a cereal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2436840"/>
            <a:ext cx="41907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I Wanted to Know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y does food help you?  I predicted that you can get energ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Food Poem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ce crea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ce-cream, ice crea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h that drippy ice cream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ou taste so cold and ic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ce-cream, ice crea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40384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icture of an On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you slice onions, sometimes it makes you cry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84760" y="1600200"/>
            <a:ext cx="3459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t a Grocery Stor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you look very closely you can see a knife.  He uses it to cut meat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246204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e Answer to My Ques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od gives you energy, and if it didn’t, you wouldn’t be able to mov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I Didn’t Know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f you didn’t have food to help your brain, you really wouldn’t be doing anyth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Food is Importan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ecause it has nutrients inside it that help your bod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8:59:21Z</dcterms:created>
  <dc:creator>Nancy Hertzog</dc:creator>
  <dc:description/>
  <dc:language>en-US</dc:language>
  <cp:lastModifiedBy>UIUC</cp:lastModifiedBy>
  <cp:lastPrinted>1904-01-01T00:00:00Z</cp:lastPrinted>
  <dcterms:modified xsi:type="dcterms:W3CDTF">2003-07-21T02:19:03Z</dcterms:modified>
  <cp:revision>10</cp:revision>
  <dc:subject/>
  <dc:title>This is what I learned about food</dc:title>
</cp:coreProperties>
</file>