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169-4899-4674-9083-9CD14712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C65-A3A7-42F5-B2D5-63636BF8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1D0-D5B6-49B3-9FFC-F86D2916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C73-7926-445B-98DB-28119AA4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CB8E-9A6A-4895-AA0F-D29B07BF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CAAF-B77B-4D37-88A1-1EDB68F2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76CD-806B-40C6-9D83-287AB19A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36C7-73AC-443F-AE78-A164470E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1DC4-1DF6-465A-8869-639CE054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F212-1129-423D-82FC-73926AF6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44D1-62E3-474D-9A7E-4F2F2EE3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4B4-D20F-44F1-9909-F723EE2D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ADAF-131A-427D-88B5-30EC38C1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6CA0-65D5-4AE5-B8CF-88F80A89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613F-E70D-4902-9611-6474CCBB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5450-CF6F-484D-88DF-7BD1F8E6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F23C-35CE-4E4F-A4F9-13AE1632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2A0-A725-444F-9A2F-CBAF3932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D54-7385-41E1-9360-16C5B375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799-B760-4FE5-A2F6-F26323C8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C89-6DF7-4A1D-8E77-1611D919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7B0-5A4F-47D1-80F5-66E5F754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F7F-B292-4DDD-A9B0-DCC4A720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D97-B274-47D8-ABDF-17E5ACE1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D5E4-8106-49FB-B922-472EF5FB9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8427-2EA5-4B5E-8E40-BA7F760FC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9/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al for Breakf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cereal and the name of it is “Lif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2185920"/>
            <a:ext cx="40384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Want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you have to eat?  I predicted that you need it to get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40384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bar graph of our walk around our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2278080"/>
            <a:ext cx="37720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 Mill Bar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graph about the feed mill.  They have many, many chick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3259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 and Bean Field 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Danielle and Ellie drawing field trip draw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2241720"/>
            <a:ext cx="377208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a Dell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idn’t know that in Papa Dell's the oven is so big, and that they have secret ingredients and they wouldn’t eve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is Impor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t helps our body.  It gives us energy and calcium which makes your bone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9:40:27Z</dcterms:created>
  <dc:creator>Nancy Hertzog</dc:creator>
  <dc:description/>
  <dc:language>en-US</dc:language>
  <cp:lastModifiedBy>UIUC</cp:lastModifiedBy>
  <cp:lastPrinted>1904-01-01T00:00:00Z</cp:lastPrinted>
  <dcterms:modified xsi:type="dcterms:W3CDTF">2003-07-21T02:16:27Z</dcterms:modified>
  <cp:revision>8</cp:revision>
  <dc:subject/>
  <dc:title>F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