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587-B523-4A6B-9197-261EBBB9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F0C-133C-4FD3-BCB6-4891C76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83A-A9D6-43A0-B4EA-C15BF5CA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19B-6AF8-42A9-9C7B-7FE344B1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7228-27D5-4B63-855E-FCFDDF87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4A3-7586-4CBD-925B-6F5A7A31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7459-88A7-4EB4-BDE3-31F526C8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02FE-64E4-4541-A235-0235541D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596-656E-4EC4-9902-48F6B8AF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57DE-A53D-4EE5-A927-71B58AA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13E-5186-4E6A-8079-CFDB7EC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24A-3541-43E8-B03A-58442D9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68C6-CAA4-4C47-A0F7-487F5D2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81A-28F0-436B-893A-06022DEE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5445-172D-4157-B921-326527C0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0927-B2BB-4377-9759-C3EC2CFE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3FB-C81D-42E8-B347-1802438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1A7-88AF-4613-BB38-70EE8DE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F04-FBDB-42D8-8513-6BFCA5F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0CA-FB7C-464C-91B4-B1E99CA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DBC-7236-4640-8A7E-1C532CCB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AA3-C5F2-4260-A55B-2D24611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20D-9BBA-4E17-9A99-8D11C0F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DCE-327D-4B47-8A48-91686A8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ED4C-76FE-4AF4-896D-543A54F9F14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22E-F665-43BD-953C-BF8BE8A10AB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2/11/0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 Long Time Ago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one apple and four banana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46483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tomatoes help your body?  I predicted that they made you health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032360" y="1827360"/>
            <a:ext cx="36176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Regular Pancakes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y have flour, butter, eggs, and salt in them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07880" y="1598760"/>
            <a:ext cx="3327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 Pig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don’t eat pigs.  It was for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Wishy Washy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to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43736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t the Feed Mil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am drawing the feed mill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032360" y="2490840"/>
            <a:ext cx="36176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Didn’t Know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tomatoes had roots.  Carrots are roo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 helps your body.  It helps your bones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9:22:25Z</dcterms:created>
  <dc:creator>Nancy Hertzog</dc:creator>
  <dc:description/>
  <dc:language>en-US</dc:language>
  <cp:lastModifiedBy>UIUC</cp:lastModifiedBy>
  <cp:lastPrinted>1904-01-01T00:00:00Z</cp:lastPrinted>
  <dcterms:modified xsi:type="dcterms:W3CDTF">2003-07-21T02:14:36Z</dcterms:modified>
  <cp:revision>13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