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97A-0971-4595-8F25-7D5032EA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37F-8948-4AE4-B301-F4BE95C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5D3-F2FE-4269-843B-3E6287F7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167-B74A-4794-ACDF-A6FBCD2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F7A5-5796-420C-B210-960AC7D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888-7090-451C-8D0C-9B66CA16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A909-E45D-441E-BCFC-E455BB30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E24-1E94-446D-AEA4-77D086F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2D5-FA1B-450E-89DF-1B1057C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D66-0F20-42C5-A894-2E635F4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C0DA-4982-4B73-B174-9DA3F73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240-5830-4F7D-B4F9-417F347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31E-8368-48FB-B77F-C1F2796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2AD9-4E25-449A-885F-27B7353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D0EC-06CE-4E67-A104-9FF569D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F394-2DEB-4FB1-BD61-3C8140D5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C94A-3F61-496B-A9A7-15301A15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C8B-1628-4EBC-93BA-68ECB001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452-5BAF-44AB-B854-2012BD5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924-853B-4EB1-98B0-A8717BC6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20E-F50F-45AD-92CB-B7F72339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48D-2277-45DE-ADF8-8530727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5AA-7A4D-4B75-B3FC-7BE1AF9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21D-10AE-4BDF-BFEC-B7299B4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7ED-75D1-479B-A849-459C132CA8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2A7-C4AA-45F4-8591-1FFBE514D2E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y Work About Foo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B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2/9/0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y Lunch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what I had for lunch a long time ag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267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ruit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uits, frui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love frui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quishy, glopp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ui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aking Cerea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I think you make cerea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take wheat, and you grind it up, you put it out to harden.  You put it in a bowl and put milk i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3160" y="1598760"/>
            <a:ext cx="36162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ough Flattening Machi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t flattens dough so that you  do not need to flatten it with your hands. After you flatten it you put it into a pa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63520" y="2490840"/>
            <a:ext cx="36162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Didn’t Know Befor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put raisins in water they would split in two.  Jenna did it in an experiment today.  I didn’t know that you could blow the yolk out of eggs and that maple syrup came from sap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f you didn’t eat food you would die.  It helps you get healthy and be stro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09:56Z</dcterms:created>
  <dc:creator>Nancy Hertzog</dc:creator>
  <dc:description/>
  <dc:language>en-US</dc:language>
  <cp:lastModifiedBy>UIUC</cp:lastModifiedBy>
  <cp:lastPrinted>1904-01-01T00:00:00Z</cp:lastPrinted>
  <dcterms:modified xsi:type="dcterms:W3CDTF">2003-07-21T02:12:46Z</dcterms:modified>
  <cp:revision>8</cp:revision>
  <dc:subject/>
  <dc:title>My work about 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