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8A8-0DCB-4378-8D87-7A2E8622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4F9-74EE-48F4-9C29-406E5FB8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520-BBB5-48BE-A65D-B3A337C8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81F-4515-4B7F-9F34-0FBA6BF7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814B-4D49-423F-9931-3FD391FB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E261-5EF3-40F2-B5AC-BCEB62A3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3BB6-D018-4B08-B4FD-FB965F6B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DAC5-6B77-43A3-8152-16C3D09B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F6BE-47C2-4D1E-8131-AC243773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37E5-489C-4592-A093-308901BF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F7E-E2C8-4B32-AD89-683A8F7C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275-C77A-4049-96B6-6E3B4FC7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F0A1-8452-4AA6-9FF8-8F2ACA13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BE06-3CC3-4FEC-9AB6-5540A08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2876-00D1-4BC4-A652-869F85FF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699-5029-4F0B-A951-80BA17C0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C69A-CA1F-4A5A-A24C-6C18692E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74B-0AB9-425C-B55E-F80317A3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5D0-30C4-4F0D-BF71-A3891C52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1A9-512A-40CA-AD16-CC659D08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B63-2FBE-439B-BB6A-F29CC212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287-973E-48A4-82F7-0D74D3EC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D8F-8ADF-44A7-A96D-500E373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59E-3CF9-4C46-9734-D52E971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1EFC-B304-422A-92F3-1383BC3ADE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d7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FC26-FFE0-4500-97B9-5299821471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This is My Food Project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/11/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A Food Surve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survey.  It’s about food.  Do you like pepperoni pizz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0560" y="1600200"/>
            <a:ext cx="3573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 Wanted to Kno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neva"/>
              </a:rPr>
              <a:t>How do you get turkey at the store?  I predicted that it's fast because you have to sneak on it and grab it and put it in a cage and take it to the turkey st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igestio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prediction. You throw up when you have the fl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9960" y="1600200"/>
            <a:ext cx="3714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Field Trip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rew on a field trip.  We drew about the corn and the be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8320" y="2349360"/>
            <a:ext cx="403848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is is the Answer to My Question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ly the turkeys are already dead when they come to the store.  They put them on sh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50832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 Didn’t Kno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cows make milk.  I didn’t know that plants have roo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Food is Importan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it is healthy and good for yo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8:50:00Z</dcterms:created>
  <dc:creator>Nancy Hertzog</dc:creator>
  <dc:description/>
  <dc:language>en-US</dc:language>
  <cp:lastModifiedBy>UIUC</cp:lastModifiedBy>
  <cp:lastPrinted>1904-01-01T00:00:00Z</cp:lastPrinted>
  <dcterms:modified xsi:type="dcterms:W3CDTF">2003-07-21T02:10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