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8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29A1-612C-42D1-A42F-CC0921C4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5D68-2A6A-4477-A07C-81F845B5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BBD-A22C-4960-9164-696D8F0C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930-F429-44B3-81D8-0D696D70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FB17-3BAB-4DE2-A0B7-3583CEE6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5BDF-4D93-4916-8D8B-1BBE5ACD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DF54-3242-4DD3-A69D-09E08427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9297-C968-411C-9FC5-8BF553C0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C7B3-DD32-43FC-979A-0D13AE66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8EB6-1631-4887-9666-4C73B34B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AC5D-BC9A-4B43-8761-9A179CDD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5CDC-7474-4BE5-BE68-46D35EE3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818C-8E85-470C-BC82-AF81DE5A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8C67-A222-4C25-A8A4-1B95E3BD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E12F-062B-48D2-B572-7391020C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0DA0-915C-4E35-B6A8-300BC61F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11FF-512C-4BFE-9F0D-126C8400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B2D-A6EC-4A5C-8598-081A96E5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C54-D44E-402B-ABF0-17A8A4C2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045-9D4C-40C6-85DB-34BC160A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158-5A18-49C1-ADCB-522E2A4E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0E96-5C43-4861-BDF2-94A25E3B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242-3C4F-4EED-AEC7-59F933BD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F7B8-B495-4184-B0A4-31713263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F3F0-C559-459B-89F7-C646B4827C3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4361-4C57-43BA-AC72-AF0916F168E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No Foods are Bad for You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2/9/0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In the Beginning of the Projec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y all are foods that I had for lunch. I knew these foods were health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429000" y="3048120"/>
            <a:ext cx="415116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I Wanted to Know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ow do you make all kinds of food?  I thought they made the food in a different country and then they bring it to a restaurant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43080" y="1598760"/>
            <a:ext cx="36925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The Mold Bread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86200" y="1599840"/>
            <a:ext cx="3618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is is moldy bread. Mold is blackish greenish.  If you leave bread out, the mold would come and get on it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3200400" cy="2514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024360" y="461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33163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How You Make Pizza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is is how you make pizza.  First is the dough; second you put on tomatoes, oil and cheese; third you put it in an oven; fourth take out.  Let it cool.  Flip, cut, and serve it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886200" y="1219320"/>
            <a:ext cx="2317680" cy="2819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391000" y="4716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6324480" y="3276720"/>
            <a:ext cx="2440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The Pizza Group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is is the group who went to the pizza place.  The manager is making the pizz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63520" y="2490840"/>
            <a:ext cx="361620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This is My Answer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You buy the ingredients at the store and then you mix them and then you have the foo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I Didn’t Know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at all foods are good for you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Food is Importan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ecause it helps you with your body. It helps you have energy and move your arms and bod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8:40:01Z</dcterms:created>
  <dc:creator>Nancy Hertzog</dc:creator>
  <dc:description/>
  <dc:language>en-US</dc:language>
  <cp:lastModifiedBy>UIUC</cp:lastModifiedBy>
  <cp:lastPrinted>1904-01-01T00:00:00Z</cp:lastPrinted>
  <dcterms:modified xsi:type="dcterms:W3CDTF">2003-07-21T02:03:29Z</dcterms:modified>
  <cp:revision>10</cp:revision>
  <dc:subject/>
  <dc:title>No Foods are Bad for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