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10528-C6BF-4BE1-AB93-42A566E9F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1F063-2FC4-435D-B875-F039B3465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BC5B5-FD58-4513-A3E1-7171ADA9A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096AE-8671-4A2B-86EB-888CBF37F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4794D-2470-4805-9061-CB9271740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B8C71-69E1-4D32-B1A2-47A8C58B2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5C446-0EA5-4045-B338-3B52F66F1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545B4-2F81-4A71-A3F3-D024C73D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39BD1-B1D5-478A-B6C1-146022790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72524-5373-4319-90B7-4B507205E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2B061-2602-4B69-B489-C37CE6E5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57FEB-C05D-4912-A291-B3D0224EA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E537A-76F5-457B-A927-FE61E79F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F50E4-258E-413F-98DA-8B2D408E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96680-8772-4A2E-9E54-CB473860B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18571-0527-4318-A992-74BF85F09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FC936-57E4-4180-87B2-C82658029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3B664-ECF6-4E5E-BDD6-8AE04F743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EA8B0-4A31-4BF1-B3D1-869F368FD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22E1F-B1F3-4879-9D9B-6BA331506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2A8B9-E49B-4CB7-BFC0-6EB05A35F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4EC8D-E7D9-43F2-AED0-F876E152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9362D-F92C-478B-98BE-A20AC247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2B263-8948-4F53-A1CA-05CDBE9D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EEF0D-06BA-4BA1-AD4B-17229816249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52110-B167-4C5A-8EBC-E0119B017E1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"/>
              </a:rPr>
              <a:t>Food</a:t>
            </a:r>
            <a:endParaRPr b="1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/12/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Arial"/>
              </a:rPr>
              <a:t>Pringles</a:t>
            </a: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what I had for lunch on 8/27.  It was Pring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886200" y="2743200"/>
            <a:ext cx="4800600" cy="33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Arial"/>
              </a:rPr>
              <a:t>I Wanted to Know</a:t>
            </a: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41907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do you drink milk? I predicted that it gets your bones strong to kill the ger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520" y="3836880"/>
            <a:ext cx="518148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Arial"/>
              </a:rPr>
              <a:t>Sheep</a:t>
            </a: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a sheep.  I was predicting that the farm was going to have sheep.  We went to the farm to see what sheep 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48320" y="2209680"/>
            <a:ext cx="4038480" cy="36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Arial"/>
              </a:rPr>
              <a:t>Papa Dell’s Pizza</a:t>
            </a: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 is putting the dough in the flattening machi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" y="23511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Arial"/>
              </a:rPr>
              <a:t>I Didn’t Know</a:t>
            </a: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llets.  These are little tiny crushed up brown things.  Baby animals get to eat them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Arial"/>
              </a:rPr>
              <a:t>Food is Important</a:t>
            </a: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od helps you grow stro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2T18:43:57Z</dcterms:created>
  <dc:creator>Nancy Hertzog</dc:creator>
  <dc:description/>
  <dc:language>en-US</dc:language>
  <cp:lastModifiedBy>UIUC</cp:lastModifiedBy>
  <cp:lastPrinted>1904-01-01T00:00:00Z</cp:lastPrinted>
  <dcterms:modified xsi:type="dcterms:W3CDTF">2003-07-21T01:58:27Z</dcterms:modified>
  <cp:revision>7</cp:revision>
  <dc:subject/>
  <dc:title>Foo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