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D10-9466-4D78-9643-D52AB716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5FC-DD4B-43B2-8A28-D7E93C8A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C47-9430-4B85-9990-08F57248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46A-F909-4196-9C45-55A04D40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641E-2020-4CDF-943B-8D1AD6E3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D850-8338-4FB9-B3D0-7AF7B491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AAA4-7980-4E94-9D21-C198E59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CF36-98F8-4637-9048-F0549AF2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A75C-FF2F-4D0D-8DCB-58A39DB3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F9A9-9679-42BD-AEA3-DBE03231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128E-9AFD-4676-B5A2-A961DE1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89E-A7B3-4FDA-83BA-357F7C30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9E3-AF02-481E-9061-E5DA344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927D-5CD6-4C33-9CD0-BC4D5A15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A614-711D-4013-A0B6-84B1EB94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8550-73F8-48A6-89BA-289BDA29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C607-B606-4ECE-93BE-EA908A34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714-2F83-4905-8884-2270F37D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D31-3272-4D96-9BB6-91FE4B9A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CC2-600B-4E15-9B7B-438EAEBD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683-FB50-4D59-8D93-A47DC2CF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7DA-88F4-4CF0-AA3C-B1BCF07C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020-E9ED-4CF9-AE26-7ED87EF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9B5-0811-4906-8056-6578D195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270C-A44E-4099-8E62-522831DB7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E76E-98BF-4FA3-B7E4-8A717BED8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Food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C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/11/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 Ch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odles, rice and dumplings and some pink milk that tastes like strawber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267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 Wanted to Kn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carrots good for you?  I predicted that they have vitamin 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5720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ughnu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doughnuts. It’s a treat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9880" y="2470320"/>
            <a:ext cx="487692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gredi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the ingredients for pizza. You put in some flour, put in an egg, stir it.  Pat it and put it in the oven, then you eat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4267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feter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to put the silverware in the dishwasher two times to make sure all the germs are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Answer to My Ques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ots are good for you because they help you s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 Didn’t Kn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you have to have some fats.  They help you keep al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od is Importan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you stay alive with vitam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9:42:15Z</dcterms:created>
  <dc:creator>Nancy Hertzog</dc:creator>
  <dc:description/>
  <dc:language>en-US</dc:language>
  <cp:lastModifiedBy>UIUC</cp:lastModifiedBy>
  <cp:lastPrinted>1904-01-01T00:00:00Z</cp:lastPrinted>
  <dcterms:modified xsi:type="dcterms:W3CDTF">2003-07-21T02:00:22Z</dcterms:modified>
  <cp:revision>6</cp:revision>
  <dc:subject/>
  <dc:title>F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