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4B7FB-CC32-4D80-B51E-56F3B96D1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CBB17-6D91-4F41-A504-AC90A52E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E67C7-6936-4DAB-B921-42923633E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566A1-B08F-4526-88CB-D4951744F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AF70-04EE-4285-8EAB-89357C7ED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3F11-BDFF-40B0-8223-FB7BE060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711C-6D06-4388-822A-35469BB8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2FC3-7691-475A-86C8-01FA9128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4FD2-489D-4C21-98CE-0B38D633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319E-2951-4E53-9478-C674BB88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D951-5026-4AE8-8558-4BFE0B53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9BD8E-DBB2-41D5-98F3-AAFE4C1A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8DE6-913B-41A1-A6AD-EE57DB84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7DE0-A56E-4D2B-95E4-5BB870D7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7040-9835-4953-824A-C4F15CB0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31D4-8E2C-4472-8CD7-D1A70CE7F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7C3E-9A42-451D-831E-774695C58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DE88F-C0CD-4B92-9621-B8E443F2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6540A-E0ED-484A-A5A6-6A72D870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9DBC7-C20C-4E65-B1E7-86FF5D24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46255-47A8-41F0-8392-72F03CC9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BAEF9-1F5A-4CA3-94B5-1FA63ABE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888F2-0EA3-4F76-B030-20B937E9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F6985-A391-4FA5-9DC4-448E3481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6D5C-6E54-4CB0-AE6D-46505DCCCF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D4BB-C180-4743-9AEC-C230A48BBE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Food</a:t>
            </a:r>
            <a:endParaRPr b="1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/10/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"/>
              </a:rPr>
              <a:t>Food is Important</a:t>
            </a: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’ll die if you don’t eat food.  Food helps your brain think and your brain is the most important part of your body because it makes everything else 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"/>
              </a:rPr>
              <a:t>At My House</a:t>
            </a: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ice cream.  I like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105520" y="1295280"/>
            <a:ext cx="31082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"/>
              </a:rPr>
              <a:t>I Wanted to Know</a:t>
            </a: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does cheese come from?   I predicted that it comes from pla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3165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"/>
              </a:rPr>
              <a:t>Prediction</a:t>
            </a: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rediction of what is in a crep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041800" y="1600200"/>
            <a:ext cx="32511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"/>
              </a:rPr>
              <a:t>Crepes</a:t>
            </a: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ddabir is eating crep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"/>
              </a:rPr>
              <a:t>Another Prediction</a:t>
            </a: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e’ll see at the pizza pl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029200" y="2971800"/>
            <a:ext cx="3567240" cy="3059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101680" y="2473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434340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"/>
              </a:rPr>
              <a:t>Papa Dell’s Pizza</a:t>
            </a: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mixing machine.  It mixes the doug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"/>
              </a:rPr>
              <a:t>The Answer to My Question</a:t>
            </a: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ese comes from cow’s milk and goat’s mil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"/>
              </a:rPr>
              <a:t>Now I Know</a:t>
            </a: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es come from trees and bananas come from trees.  Milk is in ice-crea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19:33:12Z</dcterms:created>
  <dc:creator>Nancy Hertzog</dc:creator>
  <dc:description/>
  <dc:language>en-US</dc:language>
  <cp:lastModifiedBy>UIUC</cp:lastModifiedBy>
  <cp:lastPrinted>1904-01-01T00:00:00Z</cp:lastPrinted>
  <dcterms:modified xsi:type="dcterms:W3CDTF">2003-07-21T01:53:43Z</dcterms:modified>
  <cp:revision>11</cp:revision>
  <dc:subject/>
  <dc:title>Foo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