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346-22E5-4DEF-8EE3-657CB2B9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58E-1BA8-4C11-B154-BA7830F8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801-741F-4790-AFB7-5732BBFD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BF7-93E9-456D-9EF6-C4BD8F28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E488-C40C-45D4-B8F1-E76D81ED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F4F1-4717-4C76-9A34-D458315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3969-6462-4CDB-92CD-6A5B9578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6F79-B482-4BE0-B7D3-4F13E38A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640C-D953-4732-9D9F-3A0C732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5BDD-1199-45EA-B241-A7E6864E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17C4-9BF1-43AF-8A04-AC5531A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325-92D6-43FB-9EAF-72D39719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0DEB-D1DF-43A1-9254-43BA8C4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03C9-DE96-40EB-B0E0-7EAABF76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EC1D-2800-419E-B0BC-9339830D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C791-EB8E-45D3-9AF8-5296EB06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B289-28F0-480F-BC73-2302D69C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B30-C6DD-4F9C-9B29-417C3AD2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A34-839E-44B0-B3DF-0F2F08BD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16A-DA57-434E-87C3-AC36632A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F09-B3B7-450A-A791-1012A4D0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F76-53AD-4F2C-98A8-3938961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757-61CE-465A-A14D-D6BCE3F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45B-2AF5-4277-915C-0003537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2897-F795-4CD5-B2B8-044B6AFF6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41F4-6119-4B9F-A5F3-2F1BB8A3C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How We Eat Food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/10/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In China and at My Hous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noodles and dumplings.  I had them in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2514600"/>
            <a:ext cx="43434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This is What I Wanted to Know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es blood come out of your body?  It happens when I take a scab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4952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The Healthy Group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tree and an orange and apples, and tomato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2633760"/>
            <a:ext cx="45720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At The Farm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ow looks cool.  It gives us mi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51055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I Didn’t Know 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carrots help your eyes.  They have Vitamin D or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Food is Importan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it makes you strong and healthy. If you don’t have food you cannot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9:23:49Z</dcterms:created>
  <dc:creator>Nancy Hertzog</dc:creator>
  <dc:description/>
  <dc:language>en-US</dc:language>
  <cp:lastModifiedBy>UIUC</cp:lastModifiedBy>
  <cp:lastPrinted>1904-01-01T00:00:00Z</cp:lastPrinted>
  <dcterms:modified xsi:type="dcterms:W3CDTF">2003-07-21T02:07:10Z</dcterms:modified>
  <cp:revision>8</cp:revision>
  <dc:subject/>
  <dc:title>How We Eat Food</dc:title>
</cp:coreProperties>
</file>