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CC9A-0CF6-4FC6-8317-1E98424D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A8D-201C-4DAE-97CD-36E64531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F1DA-5597-4FB4-B437-8C4D3FF8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BBC-88D0-47A8-9AFC-B59B74E8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D1F4-7779-445F-B7A5-1EE6F7BF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6A96-777D-41F5-93CA-5A85A987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E9EC-B7D9-4836-A834-B33E4068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D3C6-694D-47C9-9142-02351B38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40CC-321A-4A75-94E5-422A5DE6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6A1E-51F2-4F16-9544-47FF5414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B80D-E6AA-4188-8FF4-DDD61373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47D-6A15-4FD6-BA5D-2DA30781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74A9-2624-4467-97A4-7B974FFC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C04C-714D-4B6F-8DDC-13A8667D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74FB-0FD8-43D3-942D-0CC9B2B4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C820-875F-4498-AAC3-994A6420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2693-A6B7-4CE3-BB79-8BEFD44B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65F-6625-4137-9689-BB95191A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460-F286-4F15-872C-59C82603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6FC9-58A8-490D-8A41-2F414D82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1FDF-81CE-4533-AB10-D33EFCF7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9099-8EF9-4CBE-9720-B7E40A24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313-6827-461E-ADF9-85845873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D78-852B-444A-9E8C-F333ADAD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45B5-B74F-43E2-95D0-4B46831B4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A0D1-146F-4A5C-9873-1767E9E31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ood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/10/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is Impor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f you don’t eat any of it you’ll die.  You will not have enough fuel in your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my mom’s bread. She mad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457200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Want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food grind up in your stomach?  I knew it goes through your digestiv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83160" y="1828800"/>
            <a:ext cx="3119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Room with Y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predicting and counting how many beans equal the weight of a granola bar and a crac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786200" y="1828800"/>
            <a:ext cx="3122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 Mill Field T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a chicken that I drew as  a prediction for one of our field trips to the feed mil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5800" y="2316240"/>
            <a:ext cx="37720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cows and we went on a field trip to find out what is at a feed m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10160" y="2243160"/>
            <a:ext cx="40766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10160" y="1828800"/>
            <a:ext cx="4152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food fall down you esophagus? They were showing us a movie about dig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2190600"/>
            <a:ext cx="377208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Answer to My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cannot fall down your esophagus. Because your esophagus is too small for things just to fall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Didn’t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cheese has mold on it like blue and green chee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19:40:10Z</dcterms:created>
  <dc:creator>Nancy Hertzog</dc:creator>
  <dc:description/>
  <dc:language>en-US</dc:language>
  <cp:lastModifiedBy>UIUC</cp:lastModifiedBy>
  <cp:lastPrinted>1904-01-01T00:00:00Z</cp:lastPrinted>
  <dcterms:modified xsi:type="dcterms:W3CDTF">2003-07-21T02:06:52Z</dcterms:modified>
  <cp:revision>11</cp:revision>
  <dc:subject/>
  <dc:title>Food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