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CE3-9FF8-4183-8CE9-37E96A84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655-B13E-4B3B-B506-CFA55D6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690-1322-4934-8AFC-7093910B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945-022A-4D46-8414-65C4E9A6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F5DB-8FD7-4503-B27E-279D4B23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A2B9-15E0-4E59-A7BE-B4CC90D1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9DF1-1EF0-447C-8540-BA940CC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254-96DE-438E-B391-9E9188F3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B0C3-5869-40C4-969E-5B59091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8FB6-B95E-4FE1-B850-4F5F8194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521D-CE8F-49FF-9D4A-9D879EE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7DC-F9DF-4941-A283-EFDE93D1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DADE-C8DE-4037-B0D1-BADA6AC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3030-F301-4E0E-ACD9-49882E8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C545-51B4-4FB6-BC97-1EDB3842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046-2F7A-4CA1-8D09-E9CCD8CE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586-2648-4031-B42A-4FD0653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758-7AB5-4985-A5DD-264E05F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B6C-E286-41B0-99AD-6241EDD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873-4B41-4968-A549-9B33622C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EA9-8D88-4363-9390-DB64F020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446-074A-4DEF-9978-562BC8E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F8E-F9E4-44F7-840E-A59211E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480-958D-44F2-BD74-6BE5846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08D9-A65C-409C-AAB5-79E83013277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9D0-0403-41CB-A317-DCD0427D34D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y Food Projec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ge 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innamon Brea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had cinnamon bread for breakfas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4678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when you are chewing up food when it’s going past the hole in your mouth, how does it not go down? I predicted that your tongue  pushes it awa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146480" y="1598760"/>
            <a:ext cx="33879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Parts of a Pl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a plant with roots, stem and leaves. This plant makes f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31082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actor Driving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a tractor.  It gets foo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032360" y="2489040"/>
            <a:ext cx="3617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answer to my ques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ood just automatically gets away from your stomac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 Didn’t Know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ou have to have fats.  If you wouldn’t, you’ll get too thi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t’s fuel for your body and if you wouldn’t have it you would di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47:56Z</dcterms:created>
  <dc:creator>Nancy Hertzog</dc:creator>
  <dc:description/>
  <dc:language>en-US</dc:language>
  <cp:lastModifiedBy>UIUC</cp:lastModifiedBy>
  <cp:lastPrinted>1904-01-01T00:00:00Z</cp:lastPrinted>
  <dcterms:modified xsi:type="dcterms:W3CDTF">2003-07-21T01:42:29Z</dcterms:modified>
  <cp:revision>9</cp:revision>
  <dc:subject/>
  <dc:title>My Food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