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B75-3036-41CA-81BE-D251ADAC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1F9-E84E-4F29-8614-B05BD7F6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BB3-808F-427E-9FCD-E36A424A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E49-520E-4B82-9A06-664688A5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CE73-2A06-4A91-96BB-8ADF1E93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3DC8-19C6-4B6F-9C93-CF3F798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6A8A-35C1-469F-AB4C-D3D6B71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CA14-8FCB-4E43-A0BF-58F8419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05DB-7E3D-469B-B7C5-1351B288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CBE6-0F32-4F91-B77E-062917F1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6B93-5967-44B6-9C7D-5276210E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784-3B6C-4EB8-AD51-9FD2067D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119C-DE8E-4B51-B3D5-A8233FD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1FAF-BA29-47F3-87DE-DC0E8E2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9B2C-A7E2-418A-8BFE-1BFF144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248-E104-4BC7-97FB-10E112E3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0589-02D2-4C3C-9B20-D31C8853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0BA-2B18-4154-818F-B2BA1110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E6B-3CB5-48F3-BCAE-97CD0AB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B20-C3AC-4E95-AA74-51972FBB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8CA-77F6-4D75-AC7A-A1AAA33E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B47-66E2-4253-BF95-C2B5C3DA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0CE-F800-4EDE-9DA3-D8CAAD21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EB1-1AAD-4FFC-98B7-66B77B0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93A0-DB57-4670-8868-72006439BD1C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1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2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D5E8-1DAA-4BE7-81B8-B7CA0D5F192D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ood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2/9/0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In California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 ate sushi in California before the school  year bega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I Wanted to Know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re did all these foods came from?  I predicted that it came from plant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Making Crep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is the prediction about what is in crepes.  I predicted that there will be flour, eggs, milk, and syrup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2432160"/>
            <a:ext cx="37335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repes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e did this for math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real Poem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 like cerea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ereal, cerea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h that nice food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You taste so yummy good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ereal Cerea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2448000"/>
            <a:ext cx="37335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e Answer to My Ques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od things come from plants but also from the ocean, the beach, and on land. Chicken and turkey run around on lan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I Didn’t Know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at food is so important.  If you do not have any food you would die, because you’ll grow very, very skinny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9:33:28Z</dcterms:created>
  <dc:creator>Nancy Hertzog</dc:creator>
  <dc:description/>
  <dc:language>en-US</dc:language>
  <cp:lastModifiedBy>UIUC</cp:lastModifiedBy>
  <cp:lastPrinted>1904-01-01T00:00:00Z</cp:lastPrinted>
  <dcterms:modified xsi:type="dcterms:W3CDTF">2003-07-21T02:06:46Z</dcterms:modified>
  <cp:revision>9</cp:revision>
  <dc:subject/>
  <dc:title>Food</dc:title>
</cp:coreProperties>
</file>