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97C-398C-4850-A261-E38A8D65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6D2-5F35-4C66-AD92-B4002148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D69-28D6-4F52-866F-BDB220B6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0D5-4FCD-4983-A4B4-AA999A3F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1F20-F2EA-412B-956C-884B67E9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723E-AE47-4CA0-9560-2FD9DA7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1030-5C75-4F91-A179-1E3A2A1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E003-44C1-4E2A-92EA-51864793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6148-2302-481E-8D3C-E5BE8F0C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39E3-588F-4629-B891-0FB8E49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0D31-4F6F-4D18-ACCF-1E8BC247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02D-0361-49C8-A803-55F3624F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F8D2-253E-42AE-A92B-C3D73F7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6F5-E6D0-477D-8401-5A2BD3E5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9681-E02B-45F7-98BD-854C9A0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9FD0-D543-4EE2-A26D-7DF04094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7395-7FF2-466F-B640-221E3CF6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A52-7A57-4A71-874A-B4665F97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EA9-5EF4-4C42-98F9-E8684BD7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5A9-7C4C-47A6-B728-3123DB7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DEE-177E-4915-AA37-E202489B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03E-927B-444F-AC62-8760287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2FE-39C3-4E60-B247-C10AE3D2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9DD-BE47-4AB7-A3A1-D290550B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35D-9551-45EE-AC17-018CB606B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7DC3-A223-4BBD-9D8D-D440265E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H’s food pap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9/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in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anut butter and jelly sandwich with chips.  I had this at lu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191120" y="2925720"/>
            <a:ext cx="44956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How do they put chicken in a plastic box?  I think they put chicken in plastic.   First they take a little tray, then they put the chicken in it and then they put the plastic over it.  So when they put it in the freezer the chicken can be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eeds are growing in a paper tow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3434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es in a B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bag of gra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81760" y="1828800"/>
            <a:ext cx="282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beans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03200" y="1828800"/>
            <a:ext cx="2535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How I Answered M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machine that puts plastic over a little tr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19520" y="295416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Didn’t Know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earned that spores are a word that means m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is important because it keeps you alive.  It gives you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17:25Z</dcterms:created>
  <dc:creator>Nancy Hertzog</dc:creator>
  <dc:description/>
  <dc:language>en-US</dc:language>
  <cp:lastModifiedBy>UIUC</cp:lastModifiedBy>
  <cp:lastPrinted>1904-01-01T00:00:00Z</cp:lastPrinted>
  <dcterms:modified xsi:type="dcterms:W3CDTF">2003-07-21T02:24:03Z</dcterms:modified>
  <cp:revision>10</cp:revision>
  <dc:subject/>
  <dc:title>Ana’s food pap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