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4984-741D-45C8-9A02-CC5481CD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95D4-1E57-444B-A92F-4FF99CC3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1F15-C1FA-4D37-845D-8D1DB492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01F-FB9F-4EC6-B26C-5D5F7570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E17B-7F77-42C3-AB7B-49CB8679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13AF-2A7C-48FB-BEA4-5A65321D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690B-7D9B-4AA2-B78B-2C427A10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47F8-7150-4458-8935-C85FE804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9A21-B0B0-486C-BB9C-49D89191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E02A-A402-4CC1-A2CD-0AE5DAAD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AC05-A060-464C-9891-58D8A1BB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3549-4B7A-4154-A252-DF463CBE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2F4E-1385-4648-A5A7-B340866A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F5F2-E0B8-40C2-A4B9-B361B5E5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8F3A-5ADD-4896-A84A-F3F58B8E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FA32-137E-4B62-9F17-C2612E52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7782-5F25-47D9-A91A-EE73F525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BC45-488B-4989-B6FB-C916BC10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7442-D71C-450A-8C5D-07A9409D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904F-A949-458C-B7B5-8ABCC2C9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3731-CAF9-42D2-AFC8-5F8BC844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6193-D521-4B28-B345-61E24F3B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1914-CD30-4534-A3FF-7E797C3D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3C57-506A-4099-B4BB-D7B8392B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9A59-1C6C-4C8B-BE6C-1846095A192F}" type="slidenum">
              <a:rPr b="0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A750-C114-483C-8EC1-92B796ADF000}" type="slidenum">
              <a:rPr b="0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Arial"/>
              </a:rPr>
              <a:t>Food</a:t>
            </a: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H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12/11/02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t my hous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 like these fruit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343400" y="2249640"/>
            <a:ext cx="434340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I wanted to know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w do fruits help your body?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48320" y="2249640"/>
            <a:ext cx="403848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 Turt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s is a turtle. This was on september 20th. The turtle was eating tomato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1884240"/>
            <a:ext cx="4038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Foods I Lik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 like these foods. Apple, strawberry and a banana.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48320" y="2401920"/>
            <a:ext cx="40384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heep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 liked the sheep. A farmer gave them food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2313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I Answered the Questi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ruits help the body because they have good stuff in them and they help your body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I Didn’t Know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 didn’t know that the oven in Papa Dell’s went around.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50832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Food is Importan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o you wouldn’t get skinny. If you are too skinny you can get sick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18:40:59Z</dcterms:created>
  <dc:creator>Nancy Hertzog</dc:creator>
  <dc:description/>
  <dc:language>en-US</dc:language>
  <cp:lastModifiedBy>UIUC</cp:lastModifiedBy>
  <cp:lastPrinted>1904-01-01T00:00:00Z</cp:lastPrinted>
  <dcterms:modified xsi:type="dcterms:W3CDTF">2003-07-21T02:06:09Z</dcterms:modified>
  <cp:revision>7</cp:revision>
  <dc:subject/>
  <dc:title>Fo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2</vt:r8>
  </property>
</Properties>
</file>