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DB2-AECF-404B-91A5-AAE4A7A7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139-C49F-4A28-B045-40B9B84F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296-1FB0-4135-BA81-CF0F3D55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D1D-6270-4FCC-B53D-072577F2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BD60-1288-4519-A891-B6F4BD4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021-E5C3-415E-A3F2-7413A4B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C4C-6B56-4D23-8609-B718294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413-B79C-431E-99AA-CF95DAE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BCC-D043-41D5-AFBE-C8C4829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797-BFEB-4ACC-AFB7-BBC88158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10C3-842F-4402-9648-5B2A1CC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A8B-1EDE-4024-9983-149375E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CF5B-C2EB-4F96-B495-F7DFB1A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7235-AA53-48D2-83BD-B22F283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602F-71E3-470B-8234-99FD6F84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CCCB-AA00-4D09-AF5F-86526F7E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BA4-B4F1-40E0-88A6-1B34955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E4A-19B2-45CA-990E-2441A50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2E5-F5A1-49F2-915D-8BE4A6AA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E51-A3D0-4EDF-B989-414549C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C27-F6A4-42B4-BF44-7FF4F9C4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6DE-6390-4286-B3AD-A58E244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0E1-E58A-40EB-BF07-4FFB231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33E-8341-4FB5-9EAF-4C8C39E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D8B-9993-4E75-BC8C-59067B2E8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F645-A578-4AF5-BFEF-C9BB256A73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easuring  building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J    5/16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ast summ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 helped  my dad  measure  the  deck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760840"/>
            <a:ext cx="380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ddle of the year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  measured by  our  fee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635800" y="2044800"/>
            <a:ext cx="290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per measur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f you didn’t measure the paper airplane will look bad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4952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is is what’s important about measuring buildings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f you don’t measure the building would probably fall down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47:14Z</dcterms:created>
  <dc:creator>Marjorie Klein</dc:creator>
  <dc:description/>
  <dc:language>en-US</dc:language>
  <cp:lastModifiedBy>UIUC</cp:lastModifiedBy>
  <dcterms:modified xsi:type="dcterms:W3CDTF">2002-07-16T21:24:50Z</dcterms:modified>
  <cp:revision>6</cp:revision>
  <dc:subject/>
  <dc:title>Mushring  bilding’s</dc:title>
</cp:coreProperties>
</file>