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4824-A65A-406C-A4DC-95CF0F13A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60D2-6647-4870-AA91-77BF059E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5C08-7B53-46FB-96E8-7AAC135CD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F054-ED36-40C2-8ED6-D1C935202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DB430-AE35-4DD0-BDCF-027525391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AD30-FCCF-46D5-9098-34DFB432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16B6-35E4-43E3-A90E-E1EC3B3A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E318-4056-4948-A2DB-C06AB8F9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7376-1315-431E-8E59-EE01FE38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F02A-AED8-43BD-8547-FFFB1248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8FF71-8269-41D4-A68E-143E9718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6B3C-B440-4625-9639-92F26B0E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05A0-9DB8-4104-8B88-62CCCB39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4CAF-4CA9-4E44-8191-807D2B59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4476-D644-45AF-92BD-03A11E62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3688-8A64-4290-AD10-00B80CA74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2807-761D-4F0D-AFB1-A4D628605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E0A2-1713-4F77-861D-B21E8319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B0F3-69D7-49EF-B393-B1DF0484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143B-DC6F-4FC3-B486-F90B5709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2A4A-FE04-4C29-B8D4-E58C99AA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7420-BD3B-4D7E-851A-B8C3D3EF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5BFE-5229-4F36-93F5-70A86B82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AA56-F3F3-4AA7-9245-4EA1C5CE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A3C8-209C-4F8D-B9FA-F84F99DDBEC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AE05-116B-42AD-923D-1805182233C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I Like measuring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B 5\16\200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Getting measured with a sca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cales measure how much you weigh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48320" y="2773440"/>
            <a:ext cx="380988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cal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cales have number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139760" y="2057400"/>
            <a:ext cx="2900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Yard stick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 didn’t know that a yard stick is three feet long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ile gaug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 didn’t know that mile gauges went to 120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191120" y="2895480"/>
            <a:ext cx="495288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easuring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f you don’t measure it would be hard to make things. If you put in a pipe, and you didn’t measure, you couldn’t get a lot of wat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14:24:30Z</dcterms:created>
  <dc:creator>Marjorie Klein</dc:creator>
  <dc:description/>
  <dc:language>en-US</dc:language>
  <cp:lastModifiedBy>UIUC</cp:lastModifiedBy>
  <dcterms:modified xsi:type="dcterms:W3CDTF">2002-07-16T21:23:03Z</dcterms:modified>
  <cp:revision>5</cp:revision>
  <dc:subject/>
  <dc:title> I Like measuring </dc:title>
</cp:coreProperties>
</file>