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6024C-B28D-47CE-988C-44722AED4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66DD-DC4C-43C0-AFAB-0278F452A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B7683-07B1-41BD-B339-659898C5D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EA92-5240-4ED1-87A1-E0A244828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AC337-58F3-42D8-92D7-1BB2E5D98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E5CDE-B683-434F-8218-5F66A0A6F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F3C8A-AA87-4742-914C-233B97D38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7B568-3DE8-4220-936D-4E6B6267D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CD3D7-251B-4D79-A1D2-9646FF1CA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D0EB-4DE1-4BBB-A09E-6A400C987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83EED-3783-41F4-9FFD-276410C46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7EEA-75C0-4E77-BDC7-02DAE04B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7BEA-1037-4393-BF40-CD726122F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A5FD9-EF16-423E-A5FF-F3B7C72AC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8D5B5-D700-433B-9F2C-5B081A05D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458D1-1BA1-451B-A5E4-E069FE4ED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CFB4E-DEF9-48D4-99A5-C91D9EDAA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FA3A-82C9-484D-B7F9-F4725206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0DDC-463B-4C39-BC97-139DED7B5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CFC1-B46D-411E-B9C4-6E1292644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6372C-1F47-4109-817A-DA0F47F9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2DB3-B8AF-49A4-BB3E-CB19DB85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5B07-7D65-497A-AA60-E22E6494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9838-E299-4F18-888A-B1AE97913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
          <p:cNvSpPr/>
          <p:nvPr/>
        </p:nvSpPr>
        <p:spPr>
          <a:xfrm>
            <a:off x="685800" y="6629400"/>
            <a:ext cx="3505320" cy="22716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grpSp>
        <p:nvGrpSpPr>
          <p:cNvPr id="11" name=""/>
          <p:cNvGrpSpPr/>
          <p:nvPr/>
        </p:nvGrpSpPr>
        <p:grpSpPr>
          <a:xfrm>
            <a:off x="804960" y="117360"/>
            <a:ext cx="66600" cy="522360"/>
            <a:chOff x="804960" y="117360"/>
            <a:chExt cx="66600" cy="522360"/>
          </a:xfrm>
        </p:grpSpPr>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F9A5-26C0-493E-B9E3-FA35F0688C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 name=""/>
            <p:cNvGrpSpPr/>
            <p:nvPr/>
          </p:nvGrpSpPr>
          <p:grpSpPr>
            <a:xfrm>
              <a:off x="4538520" y="6670800"/>
              <a:ext cx="4332600" cy="64800"/>
              <a:chOff x="4538520" y="6670800"/>
              <a:chExt cx="4332600" cy="64800"/>
            </a:xfrm>
          </p:grpSpPr>
          <p:sp>
            <p:nvSpPr>
              <p:cNvPr id="60"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2"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3"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68" name=""/>
            <p:cNvGrpSpPr/>
            <p:nvPr/>
          </p:nvGrpSpPr>
          <p:grpSpPr>
            <a:xfrm>
              <a:off x="880920" y="117360"/>
              <a:ext cx="66960" cy="2124360"/>
              <a:chOff x="880920" y="117360"/>
              <a:chExt cx="66960" cy="2124360"/>
            </a:xfrm>
          </p:grpSpPr>
          <p:sp>
            <p:nvSpPr>
              <p:cNvPr id="6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8"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79" name=""/>
            <p:cNvGrpSpPr/>
            <p:nvPr/>
          </p:nvGrpSpPr>
          <p:grpSpPr>
            <a:xfrm>
              <a:off x="0" y="3693960"/>
              <a:ext cx="1909800" cy="1909800"/>
              <a:chOff x="0" y="3693960"/>
              <a:chExt cx="1909800" cy="1909800"/>
            </a:xfrm>
          </p:grpSpPr>
          <p:sp>
            <p:nvSpPr>
              <p:cNvPr id="80"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A5F9-3064-47B4-8D56-2F44E2A02C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You really need to measure</a:t>
            </a:r>
            <a:endParaRPr b="0" lang="en-US" sz="4400" spc="-1" strike="noStrike">
              <a:solidFill>
                <a:srgbClr val="cbcbcb"/>
              </a:solidFill>
              <a:latin typeface="Times New Roman"/>
            </a:endParaRPr>
          </a:p>
        </p:txBody>
      </p:sp>
      <p:sp>
        <p:nvSpPr>
          <p:cNvPr id="12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 B</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7/200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wimming pools</a:t>
            </a:r>
            <a:endParaRPr b="0" lang="en-US" sz="4400" spc="-1" strike="noStrike">
              <a:solidFill>
                <a:srgbClr val="cbcbcb"/>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 pools need to be measured from time to time because sometimes the outdoors gets so much rain that it overflows, and sometimes it flows so much it goes on the lifeguard chair.</a:t>
            </a:r>
            <a:endParaRPr b="0" lang="en-US" sz="2800" spc="-1" strike="noStrike">
              <a:solidFill>
                <a:srgbClr val="ffffff"/>
              </a:solidFill>
              <a:latin typeface="Times New Roman"/>
            </a:endParaRPr>
          </a:p>
        </p:txBody>
      </p:sp>
      <p:pic>
        <p:nvPicPr>
          <p:cNvPr id="128" name="" descr=""/>
          <p:cNvPicPr/>
          <p:nvPr/>
        </p:nvPicPr>
        <p:blipFill>
          <a:blip r:embed="rId1"/>
          <a:stretch/>
        </p:blipFill>
        <p:spPr>
          <a:xfrm>
            <a:off x="685800" y="2697120"/>
            <a:ext cx="3809880" cy="268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asuring tools</a:t>
            </a:r>
            <a:endParaRPr b="0" lang="en-US" sz="4400" spc="-1" strike="noStrike">
              <a:solidFill>
                <a:srgbClr val="cbcbcb"/>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thought that thermometers go up and down a single notch every day.  I thought that when you balance a scale you need something heavier and lighter to balance.</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4648320" y="2695680"/>
            <a:ext cx="3809880" cy="268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ulers</a:t>
            </a:r>
            <a:endParaRPr b="0" lang="en-US" sz="4400" spc="-1" strike="noStrike">
              <a:solidFill>
                <a:srgbClr val="cbcbcb"/>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a ruler.  I thought there was eleven in the beginning to make a ruler, now I know you need 12 inches.</a:t>
            </a:r>
            <a:endParaRPr b="0" lang="en-US" sz="2800" spc="-1" strike="noStrike">
              <a:solidFill>
                <a:srgbClr val="ffffff"/>
              </a:solidFill>
              <a:latin typeface="Times New Roman"/>
            </a:endParaRPr>
          </a:p>
        </p:txBody>
      </p:sp>
      <p:pic>
        <p:nvPicPr>
          <p:cNvPr id="134" name="" descr=""/>
          <p:cNvPicPr/>
          <p:nvPr/>
        </p:nvPicPr>
        <p:blipFill>
          <a:blip r:embed="rId1"/>
          <a:stretch/>
        </p:blipFill>
        <p:spPr>
          <a:xfrm>
            <a:off x="4648320" y="2695680"/>
            <a:ext cx="3809880" cy="268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struction workers</a:t>
            </a:r>
            <a:endParaRPr b="0" lang="en-US" sz="4400" spc="-1" strike="noStrike">
              <a:solidFill>
                <a:srgbClr val="cbcbcb"/>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didn’t know that construction workers work with measuring.</a:t>
            </a:r>
            <a:endParaRPr b="0" lang="en-US" sz="2800" spc="-1" strike="noStrike">
              <a:solidFill>
                <a:srgbClr val="ffffff"/>
              </a:solidFill>
              <a:latin typeface="Times New Roman"/>
            </a:endParaRPr>
          </a:p>
        </p:txBody>
      </p:sp>
      <p:pic>
        <p:nvPicPr>
          <p:cNvPr id="137" name="" descr=""/>
          <p:cNvPicPr/>
          <p:nvPr/>
        </p:nvPicPr>
        <p:blipFill>
          <a:blip r:embed="rId1"/>
          <a:stretch/>
        </p:blipFill>
        <p:spPr>
          <a:xfrm>
            <a:off x="4648320" y="2695680"/>
            <a:ext cx="3809880" cy="268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cales </a:t>
            </a:r>
            <a:endParaRPr b="0" lang="en-US" sz="4400" spc="-1" strike="noStrike">
              <a:solidFill>
                <a:srgbClr val="cbcbcb"/>
              </a:solidFill>
              <a:latin typeface="Times New Roman"/>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thought that measuring means how high you were, now I know it is also how heavy you are.</a:t>
            </a:r>
            <a:endParaRPr b="0" lang="en-US" sz="2800" spc="-1" strike="noStrike">
              <a:solidFill>
                <a:srgbClr val="ffffff"/>
              </a:solidFill>
              <a:latin typeface="Times New Roman"/>
            </a:endParaRPr>
          </a:p>
        </p:txBody>
      </p:sp>
      <p:pic>
        <p:nvPicPr>
          <p:cNvPr id="140" name="" descr=""/>
          <p:cNvPicPr/>
          <p:nvPr/>
        </p:nvPicPr>
        <p:blipFill>
          <a:blip r:embed="rId1"/>
          <a:stretch/>
        </p:blipFill>
        <p:spPr>
          <a:xfrm>
            <a:off x="1060560" y="1981080"/>
            <a:ext cx="30607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asurement is important.</a:t>
            </a: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need to measure stuff almost all the time, every second, every minute, every hour, every day of your lif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4:49:03Z</dcterms:created>
  <dc:creator>Marjorie Klein</dc:creator>
  <dc:description/>
  <dc:language>en-US</dc:language>
  <cp:lastModifiedBy>UIUC</cp:lastModifiedBy>
  <dcterms:modified xsi:type="dcterms:W3CDTF">2002-07-16T21:15:46Z</dcterms:modified>
  <cp:revision>7</cp:revision>
  <dc:subject/>
  <dc:title>You really need to measure</dc:title>
</cp:coreProperties>
</file>