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ct" ContentType="image/x-pict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B6A-C52A-43AF-B112-992772C6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" y="54061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4CC-1655-4C57-9F0F-AB9492B8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136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7AA-1C43-4E01-9280-7D646988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44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8544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45608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9EB-DB6B-451F-B951-D7CE3622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6351-455D-4B91-899C-A5A1BAFA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D614-93A3-4F83-89B7-1194086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BB9-CE7D-41F4-96C1-4827B938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341A-1D1F-429B-B097-2A72C54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8CD9-3BA5-4FC4-B2DD-58886F7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4C4C-9997-4D41-B246-162AD82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E05-22BD-4D19-B076-75DD52B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829-EBED-4DAE-B625-38E89BF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50136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30B-283C-4E5B-9ABB-0D8EF379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BDF-78FA-44E7-833E-8FEB622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440" y="54061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856-A577-4A68-BAE2-9EEE216C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0136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4A7E-1ABC-4B40-B121-D0B4783A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544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56080" y="254016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444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48544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456080" y="540612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984-481B-4208-B950-41B99ACB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7BF-1427-453C-8CE3-EECE944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301-C2FE-43F3-845A-8B175E4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37A-4491-48DA-85EB-766DC44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056-930F-4737-A858-DC57ACD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5F2-51A0-49DC-94DA-3AFE0F7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1360" y="540612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AB5-C86E-4050-97B4-54F9EED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54016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540612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4B-A943-4FCB-AB74-0CCC90E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73480" cy="9155880"/>
            <a:chOff x="0" y="0"/>
            <a:chExt cx="6873480" cy="9155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3418200" cy="457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576320"/>
              <a:ext cx="3417120" cy="4559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31520" y="0"/>
              <a:ext cx="3418200" cy="4576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31520" y="4576320"/>
              <a:ext cx="3418200" cy="4559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880" y="439920"/>
              <a:ext cx="6424920" cy="827172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97360" y="567360"/>
              <a:ext cx="6267960" cy="8017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9920" y="666720"/>
              <a:ext cx="6159600" cy="781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3080160" y="0"/>
              <a:ext cx="674640" cy="712800"/>
              <a:chOff x="3080160" y="0"/>
              <a:chExt cx="674640" cy="712800"/>
            </a:xfrm>
          </p:grpSpPr>
          <p:sp>
            <p:nvSpPr>
              <p:cNvPr id="9" name=""/>
              <p:cNvSpPr/>
              <p:nvPr/>
            </p:nvSpPr>
            <p:spPr>
              <a:xfrm>
                <a:off x="3640680" y="0"/>
                <a:ext cx="114120" cy="71280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528720" y="0"/>
                <a:ext cx="113040" cy="71280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417120" y="0"/>
                <a:ext cx="113040" cy="71280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304800" y="0"/>
                <a:ext cx="113040" cy="71280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93200" y="0"/>
                <a:ext cx="113040" cy="71280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80160" y="0"/>
                <a:ext cx="114120" cy="71280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080160" y="8460360"/>
              <a:ext cx="674640" cy="695520"/>
              <a:chOff x="3080160" y="8460360"/>
              <a:chExt cx="674640" cy="695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40680" y="8460360"/>
                <a:ext cx="114120" cy="69552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528720" y="8460360"/>
                <a:ext cx="113040" cy="69552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417120" y="8460360"/>
                <a:ext cx="113040" cy="69552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04800" y="8460360"/>
                <a:ext cx="113040" cy="69552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93200" y="8460360"/>
                <a:ext cx="113040" cy="69552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80160" y="8460360"/>
                <a:ext cx="114120" cy="69552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3884040"/>
              <a:ext cx="372600" cy="1411200"/>
              <a:chOff x="0" y="3884040"/>
              <a:chExt cx="372600" cy="141120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505836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82364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58856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435384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411840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388404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6495120" y="3903120"/>
              <a:ext cx="378360" cy="1347840"/>
              <a:chOff x="6495120" y="3903120"/>
              <a:chExt cx="378360" cy="1347840"/>
            </a:xfrm>
          </p:grpSpPr>
          <p:sp>
            <p:nvSpPr>
              <p:cNvPr id="30" name=""/>
              <p:cNvSpPr/>
              <p:nvPr/>
            </p:nvSpPr>
            <p:spPr>
              <a:xfrm>
                <a:off x="6495120" y="502452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95120" y="479988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495120" y="457596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495120" y="435132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495120" y="412704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95120" y="3903120"/>
                <a:ext cx="378360" cy="2257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514080" y="802440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2343240" y="802440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4915080" y="802440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003F-F6F4-427C-B0E7-2FBE320B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6857640" cy="9142200"/>
            <a:chOff x="0" y="0"/>
            <a:chExt cx="6857640" cy="914220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3418200" cy="3454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54560"/>
              <a:ext cx="3417120" cy="568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1160" y="0"/>
              <a:ext cx="3418200" cy="3454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1160" y="3454560"/>
              <a:ext cx="3418200" cy="5680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600" y="5994360"/>
              <a:ext cx="6400440" cy="2438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8880" y="975600"/>
              <a:ext cx="6424560" cy="505872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360" y="1100520"/>
              <a:ext cx="6267240" cy="4809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9920" y="1212840"/>
              <a:ext cx="6159240" cy="45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079080" y="0"/>
              <a:ext cx="668880" cy="1220760"/>
              <a:chOff x="3079080" y="0"/>
              <a:chExt cx="668880" cy="1220760"/>
            </a:xfrm>
          </p:grpSpPr>
          <p:sp>
            <p:nvSpPr>
              <p:cNvPr id="87" name=""/>
              <p:cNvSpPr/>
              <p:nvPr/>
            </p:nvSpPr>
            <p:spPr>
              <a:xfrm>
                <a:off x="3193200" y="0"/>
                <a:ext cx="113040" cy="122076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79080" y="0"/>
                <a:ext cx="115200" cy="12207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414600" y="0"/>
                <a:ext cx="113040" cy="122076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00120" y="0"/>
                <a:ext cx="115200" cy="12207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4920" y="0"/>
                <a:ext cx="113040" cy="122076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20440" y="0"/>
                <a:ext cx="115200" cy="122076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766600"/>
              <a:ext cx="372600" cy="1411200"/>
              <a:chOff x="0" y="2766600"/>
              <a:chExt cx="372600" cy="141120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94092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70548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47112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23568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000960"/>
                <a:ext cx="372600" cy="2368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766600"/>
                <a:ext cx="372600" cy="23652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479280" y="2766600"/>
              <a:ext cx="378360" cy="1347840"/>
              <a:chOff x="6479280" y="2766600"/>
              <a:chExt cx="378360" cy="13478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79280" y="388800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79280" y="366336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79280" y="343944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9280" y="321480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79280" y="2990520"/>
                <a:ext cx="378360" cy="22644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79280" y="2766600"/>
                <a:ext cx="378360" cy="2257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2742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5140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2343240" y="85341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4915080" y="8534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45D-9749-4A76-A712-8D1D9C99A3A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Young Investigators and Problem Solving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ncy B. Hertz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jorie M. Kl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ty of Illinois at Urbana-Ch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ty Primary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sented at the Young Scholars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iverside Professional Development Acade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une 26-27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14600" y="4038480"/>
            <a:ext cx="18381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Selecting the Topic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accessible for first- hand inqu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relate to existing required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emerges with the depth of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Phase I - Exploring Previous Experience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lls past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Drawing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ussions of their mem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-D Representations of their mem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bing of experiences, ideas, o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Phase II - The Investigative Phase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rst-hand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sue data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, theorize, hypoth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e new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Phase III - Culminating Investigation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understanding of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what knowledge, skills, dispositions students have g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what students hav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Steps for Inquiry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z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Outcomes of Conclusion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Children are natural inquirers . . .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need to listen to thei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 them by using "language of think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red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theor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hypothesi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4"/>
                </a:solidFill>
                <a:latin typeface="Times New Roman"/>
              </a:rPr>
              <a:t>Important Opportunities for Young Investigators</a:t>
            </a:r>
            <a:endParaRPr b="0" lang="en-US" sz="40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5829480" cy="41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How young children collect data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what they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what they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lly,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,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t,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Salient Questions for Inquiry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on roa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conditions for making a longer sha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conditions do plants need to g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es water form r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some things float and why do some things si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es a tree get planted by itsel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How Big is a Tire?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Memory Drawings:  Recording What They Know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544356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Memory Drawing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35578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Patterning by Attribute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56386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Collecting Data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461016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Taking a Survey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7130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What are you wearing?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Recording Data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37861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Topics Uncovered in K/1 Classrooms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ur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ickens/Embryos/Chick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asurement in 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amily Tra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n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More Topics Uncovered in K/1 Classrooms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cience /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hadows/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i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rn, B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anges 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hat’s on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4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Theorie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conditions for having more than sha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s to be more than one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needs to be a mirror or something to ref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o lights pointing in different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window that has sections like the one in my playroom that has a circle and square and can separate the suns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695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4"/>
                </a:solidFill>
                <a:latin typeface="Palatino"/>
              </a:rPr>
              <a:t>Do SUVs, vans and trucks use the same size tires?</a:t>
            </a:r>
            <a:br>
              <a:rPr sz="2400"/>
            </a:br>
            <a:endParaRPr b="0" lang="en-US" sz="2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ill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 think SUV tires are bigger.  SUVs have 4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heel drive.  Trucks do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Jan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onster trucks’ tires are bigg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ill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hey don’t mean monster tru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Jim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’ve seen truck tires that were bigger than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ther t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Jake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e, too.  Trucks might have bigger tires than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rian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UVs, vans and trucks have bigger tires than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ill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hen I measured the SUV tire, I couldn’t get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he tape to measure the bot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Nate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Yea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ill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he ground was in the way so we first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easured  a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Nate: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Yea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Hypotheses About Shadows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:  Why do you think it's sh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>
              <a:spcBef>
                <a:spcPts val="601"/>
              </a:spcBef>
              <a:buNone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y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I shone the flashligh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top of my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y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s is short because the ligh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in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her shadow is sho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the person she mad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:  Diane, do you have an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anation for why yours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sha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ne: I think the shadow is of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per because the person I dr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a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>
              <a:spcBef>
                <a:spcPts val="799"/>
              </a:spcBef>
              <a:buNone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>
              <a:spcBef>
                <a:spcPts val="799"/>
              </a:spcBef>
              <a:buNone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Analysis:  Finding Commonalitie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14440" y="2695680"/>
            <a:ext cx="5829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Representing as Thinking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08924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Enhancing Inquiry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ic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 results of individual or small group work at large group discussion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curiosity - "I wonder how we could find out. . 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ise thinking, planning, carrying out the plan - do not emphasize finished product or getting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Facilitating Inquiry-based Learning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rganizing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ctivity Time Period - Student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haring Products - Grou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rouping by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ildren sign up for activities based on topics of study, student interests,  or studen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ctivity Centers - Unique Variation designed to allow students to work with materials and to explore specific students’ inter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rganizing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nipulating materials to provide variety in products and top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ovide time for what is valued - Students share interests or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Language of Thinking</a:t>
            </a:r>
            <a:br>
              <a:rPr sz="4400"/>
            </a:br>
            <a:r>
              <a:rPr b="0" lang="en-US" sz="1800" spc="-1" strike="noStrike">
                <a:solidFill>
                  <a:srgbClr val="000004"/>
                </a:solidFill>
                <a:latin typeface="Times New Roman"/>
              </a:rPr>
              <a:t>(Tishman, &amp; Perkins, 1997)</a:t>
            </a:r>
            <a:endParaRPr b="0" lang="en-US" sz="18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im to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jecture, conclude, believe, confirm, doubt, know, suggest, speculate, suspect, and theo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ectu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ze, contemplate, discern, interpret, investigate, ponder, examine, and re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nds of Ideas or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lusion, hypothesis, option, solution, reason, claim, and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shman, S., Perkins, D., (January, 1997)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anguage of think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Phi Delta Kappan, 368-37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Language of Thinking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uent exposure to the language of argumentation, such terms as premise, reason, conclusion, evidence, theory, and hypothesis, draws learners into the values and commitments of critical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ing the language of thinking in the classroom helps develop learners’ sensitivity to occasions for engaging in high-level thinking.  Terms like claim, option, opinion, guess, and doubt alert learners to opportunities to do such things as probe an assumption, seek evidence, identify reasons, or look at a problem from a new point of view. (p. 3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Sample List of Facilitative Behaviors:</a:t>
            </a:r>
            <a:br>
              <a:rPr sz="3600"/>
            </a:b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s many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s the child to focus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s verbal motivation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qui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99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ment of 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es both human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s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tory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Evidence of Learning in an Inquiry- Based Classroom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general to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king links to other things they kn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rporating topic related, new vocabul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ing numerous and divergent questions, solutions, hypotheses, and the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ifa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wings, structures, writings, and conversations etc) for evidence of growth/change in their understa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Evidence of Learning*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e choice activities related to our topic when they choose to independently pursue experiments, readings, observation, or resear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of the project can often be seen in the level of the children’s engagement, their focus, their enthusiasm, and sustained inter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idence of maturing behavior, self-direction, positive attitudes toward learning, perseverance, respect, self-monitoring, responsibility, and leader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Klein &amp; Toren,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Is it this big?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4440" y="2608200"/>
            <a:ext cx="58291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Topics Uncovered in Preschool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nim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urt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abi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eaving/W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us, 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ar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rocery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Blending Bodies of Literature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8520" y="1969920"/>
            <a:ext cx="6526440" cy="5884920"/>
            <a:chOff x="128520" y="1969920"/>
            <a:chExt cx="6526440" cy="5884920"/>
          </a:xfrm>
        </p:grpSpPr>
        <p:sp>
          <p:nvSpPr>
            <p:cNvPr id="236" name=""/>
            <p:cNvSpPr/>
            <p:nvPr/>
          </p:nvSpPr>
          <p:spPr>
            <a:xfrm>
              <a:off x="1781280" y="1969920"/>
              <a:ext cx="3500640" cy="15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istorical Con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oretical Constr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essive Edu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tructivist The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49320" y="6114960"/>
              <a:ext cx="2013120" cy="58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fted Edu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fferent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3160" y="5908680"/>
              <a:ext cx="2358720" cy="13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rly Childhood Edu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mentally Appropriate Practic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4040" y="3903840"/>
              <a:ext cx="57225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iculum Reform - Emerging Best Pract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ctional Strate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-Based Le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quiry-Based Le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1000" y="2935440"/>
              <a:ext cx="1893960" cy="2131920"/>
            </a:xfrm>
            <a:custGeom>
              <a:avLst/>
              <a:gdLst/>
              <a:ahLst/>
              <a:rect l="l" t="t" r="r" b="b"/>
              <a:pathLst>
                <a:path w="1193" h="1343">
                  <a:moveTo>
                    <a:pt x="294" y="1342"/>
                  </a:moveTo>
                  <a:lnTo>
                    <a:pt x="435" y="1339"/>
                  </a:lnTo>
                  <a:lnTo>
                    <a:pt x="483" y="1334"/>
                  </a:lnTo>
                  <a:lnTo>
                    <a:pt x="542" y="1324"/>
                  </a:lnTo>
                  <a:lnTo>
                    <a:pt x="587" y="1316"/>
                  </a:lnTo>
                  <a:lnTo>
                    <a:pt x="633" y="1304"/>
                  </a:lnTo>
                  <a:lnTo>
                    <a:pt x="678" y="1290"/>
                  </a:lnTo>
                  <a:lnTo>
                    <a:pt x="718" y="1275"/>
                  </a:lnTo>
                  <a:lnTo>
                    <a:pt x="766" y="1256"/>
                  </a:lnTo>
                  <a:lnTo>
                    <a:pt x="824" y="1229"/>
                  </a:lnTo>
                  <a:lnTo>
                    <a:pt x="869" y="1204"/>
                  </a:lnTo>
                  <a:lnTo>
                    <a:pt x="913" y="1176"/>
                  </a:lnTo>
                  <a:lnTo>
                    <a:pt x="943" y="1153"/>
                  </a:lnTo>
                  <a:lnTo>
                    <a:pt x="978" y="1126"/>
                  </a:lnTo>
                  <a:lnTo>
                    <a:pt x="1003" y="1105"/>
                  </a:lnTo>
                  <a:lnTo>
                    <a:pt x="1030" y="1075"/>
                  </a:lnTo>
                  <a:lnTo>
                    <a:pt x="1054" y="1048"/>
                  </a:lnTo>
                  <a:lnTo>
                    <a:pt x="1078" y="1018"/>
                  </a:lnTo>
                  <a:lnTo>
                    <a:pt x="1096" y="994"/>
                  </a:lnTo>
                  <a:lnTo>
                    <a:pt x="1119" y="960"/>
                  </a:lnTo>
                  <a:lnTo>
                    <a:pt x="1141" y="922"/>
                  </a:lnTo>
                  <a:lnTo>
                    <a:pt x="1156" y="885"/>
                  </a:lnTo>
                  <a:lnTo>
                    <a:pt x="1168" y="853"/>
                  </a:lnTo>
                  <a:lnTo>
                    <a:pt x="1179" y="816"/>
                  </a:lnTo>
                  <a:lnTo>
                    <a:pt x="1188" y="777"/>
                  </a:lnTo>
                  <a:lnTo>
                    <a:pt x="1192" y="726"/>
                  </a:lnTo>
                  <a:lnTo>
                    <a:pt x="1189" y="683"/>
                  </a:lnTo>
                  <a:lnTo>
                    <a:pt x="1183" y="647"/>
                  </a:lnTo>
                  <a:lnTo>
                    <a:pt x="1176" y="610"/>
                  </a:lnTo>
                  <a:lnTo>
                    <a:pt x="1163" y="570"/>
                  </a:lnTo>
                  <a:lnTo>
                    <a:pt x="1151" y="535"/>
                  </a:lnTo>
                  <a:lnTo>
                    <a:pt x="1135" y="504"/>
                  </a:lnTo>
                  <a:lnTo>
                    <a:pt x="1111" y="464"/>
                  </a:lnTo>
                  <a:lnTo>
                    <a:pt x="1081" y="420"/>
                  </a:lnTo>
                  <a:lnTo>
                    <a:pt x="1050" y="384"/>
                  </a:lnTo>
                  <a:lnTo>
                    <a:pt x="1024" y="354"/>
                  </a:lnTo>
                  <a:lnTo>
                    <a:pt x="990" y="324"/>
                  </a:lnTo>
                  <a:lnTo>
                    <a:pt x="958" y="300"/>
                  </a:lnTo>
                  <a:lnTo>
                    <a:pt x="921" y="273"/>
                  </a:lnTo>
                  <a:lnTo>
                    <a:pt x="874" y="240"/>
                  </a:lnTo>
                  <a:lnTo>
                    <a:pt x="829" y="216"/>
                  </a:lnTo>
                  <a:lnTo>
                    <a:pt x="778" y="189"/>
                  </a:lnTo>
                  <a:lnTo>
                    <a:pt x="673" y="150"/>
                  </a:lnTo>
                  <a:lnTo>
                    <a:pt x="585" y="126"/>
                  </a:lnTo>
                  <a:lnTo>
                    <a:pt x="492" y="108"/>
                  </a:lnTo>
                  <a:lnTo>
                    <a:pt x="417" y="99"/>
                  </a:lnTo>
                  <a:lnTo>
                    <a:pt x="321" y="93"/>
                  </a:lnTo>
                  <a:lnTo>
                    <a:pt x="321" y="0"/>
                  </a:lnTo>
                  <a:lnTo>
                    <a:pt x="0" y="213"/>
                  </a:lnTo>
                  <a:lnTo>
                    <a:pt x="325" y="429"/>
                  </a:lnTo>
                  <a:lnTo>
                    <a:pt x="324" y="333"/>
                  </a:lnTo>
                  <a:lnTo>
                    <a:pt x="420" y="339"/>
                  </a:lnTo>
                  <a:lnTo>
                    <a:pt x="492" y="351"/>
                  </a:lnTo>
                  <a:lnTo>
                    <a:pt x="567" y="369"/>
                  </a:lnTo>
                  <a:lnTo>
                    <a:pt x="673" y="408"/>
                  </a:lnTo>
                  <a:lnTo>
                    <a:pt x="722" y="434"/>
                  </a:lnTo>
                  <a:lnTo>
                    <a:pt x="769" y="462"/>
                  </a:lnTo>
                  <a:lnTo>
                    <a:pt x="808" y="494"/>
                  </a:lnTo>
                  <a:lnTo>
                    <a:pt x="847" y="525"/>
                  </a:lnTo>
                  <a:lnTo>
                    <a:pt x="878" y="555"/>
                  </a:lnTo>
                  <a:lnTo>
                    <a:pt x="904" y="589"/>
                  </a:lnTo>
                  <a:lnTo>
                    <a:pt x="933" y="628"/>
                  </a:lnTo>
                  <a:lnTo>
                    <a:pt x="958" y="673"/>
                  </a:lnTo>
                  <a:lnTo>
                    <a:pt x="976" y="715"/>
                  </a:lnTo>
                  <a:lnTo>
                    <a:pt x="985" y="754"/>
                  </a:lnTo>
                  <a:lnTo>
                    <a:pt x="994" y="802"/>
                  </a:lnTo>
                  <a:lnTo>
                    <a:pt x="995" y="848"/>
                  </a:lnTo>
                  <a:lnTo>
                    <a:pt x="993" y="880"/>
                  </a:lnTo>
                  <a:lnTo>
                    <a:pt x="988" y="914"/>
                  </a:lnTo>
                  <a:lnTo>
                    <a:pt x="976" y="955"/>
                  </a:lnTo>
                  <a:lnTo>
                    <a:pt x="961" y="994"/>
                  </a:lnTo>
                  <a:lnTo>
                    <a:pt x="943" y="1031"/>
                  </a:lnTo>
                  <a:lnTo>
                    <a:pt x="919" y="1067"/>
                  </a:lnTo>
                  <a:lnTo>
                    <a:pt x="876" y="1120"/>
                  </a:lnTo>
                  <a:lnTo>
                    <a:pt x="840" y="1155"/>
                  </a:lnTo>
                  <a:lnTo>
                    <a:pt x="793" y="1192"/>
                  </a:lnTo>
                  <a:lnTo>
                    <a:pt x="745" y="1224"/>
                  </a:lnTo>
                  <a:lnTo>
                    <a:pt x="709" y="1245"/>
                  </a:lnTo>
                  <a:lnTo>
                    <a:pt x="666" y="1266"/>
                  </a:lnTo>
                  <a:lnTo>
                    <a:pt x="625" y="1282"/>
                  </a:lnTo>
                  <a:lnTo>
                    <a:pt x="591" y="1294"/>
                  </a:lnTo>
                  <a:lnTo>
                    <a:pt x="558" y="1305"/>
                  </a:lnTo>
                  <a:lnTo>
                    <a:pt x="516" y="1314"/>
                  </a:lnTo>
                  <a:lnTo>
                    <a:pt x="478" y="1320"/>
                  </a:lnTo>
                  <a:lnTo>
                    <a:pt x="426" y="1329"/>
                  </a:lnTo>
                  <a:lnTo>
                    <a:pt x="294" y="134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4680" y="5722920"/>
              <a:ext cx="1893960" cy="2131920"/>
            </a:xfrm>
            <a:custGeom>
              <a:avLst/>
              <a:gdLst/>
              <a:ahLst/>
              <a:rect l="l" t="t" r="r" b="b"/>
              <a:pathLst>
                <a:path w="1193" h="1343">
                  <a:moveTo>
                    <a:pt x="294" y="0"/>
                  </a:moveTo>
                  <a:lnTo>
                    <a:pt x="435" y="3"/>
                  </a:lnTo>
                  <a:lnTo>
                    <a:pt x="483" y="8"/>
                  </a:lnTo>
                  <a:lnTo>
                    <a:pt x="542" y="18"/>
                  </a:lnTo>
                  <a:lnTo>
                    <a:pt x="587" y="26"/>
                  </a:lnTo>
                  <a:lnTo>
                    <a:pt x="633" y="38"/>
                  </a:lnTo>
                  <a:lnTo>
                    <a:pt x="678" y="52"/>
                  </a:lnTo>
                  <a:lnTo>
                    <a:pt x="718" y="67"/>
                  </a:lnTo>
                  <a:lnTo>
                    <a:pt x="766" y="86"/>
                  </a:lnTo>
                  <a:lnTo>
                    <a:pt x="824" y="113"/>
                  </a:lnTo>
                  <a:lnTo>
                    <a:pt x="869" y="138"/>
                  </a:lnTo>
                  <a:lnTo>
                    <a:pt x="913" y="166"/>
                  </a:lnTo>
                  <a:lnTo>
                    <a:pt x="943" y="189"/>
                  </a:lnTo>
                  <a:lnTo>
                    <a:pt x="978" y="216"/>
                  </a:lnTo>
                  <a:lnTo>
                    <a:pt x="1003" y="237"/>
                  </a:lnTo>
                  <a:lnTo>
                    <a:pt x="1030" y="267"/>
                  </a:lnTo>
                  <a:lnTo>
                    <a:pt x="1054" y="294"/>
                  </a:lnTo>
                  <a:lnTo>
                    <a:pt x="1078" y="324"/>
                  </a:lnTo>
                  <a:lnTo>
                    <a:pt x="1096" y="348"/>
                  </a:lnTo>
                  <a:lnTo>
                    <a:pt x="1119" y="382"/>
                  </a:lnTo>
                  <a:lnTo>
                    <a:pt x="1141" y="420"/>
                  </a:lnTo>
                  <a:lnTo>
                    <a:pt x="1156" y="457"/>
                  </a:lnTo>
                  <a:lnTo>
                    <a:pt x="1168" y="489"/>
                  </a:lnTo>
                  <a:lnTo>
                    <a:pt x="1179" y="526"/>
                  </a:lnTo>
                  <a:lnTo>
                    <a:pt x="1188" y="565"/>
                  </a:lnTo>
                  <a:lnTo>
                    <a:pt x="1192" y="616"/>
                  </a:lnTo>
                  <a:lnTo>
                    <a:pt x="1189" y="659"/>
                  </a:lnTo>
                  <a:lnTo>
                    <a:pt x="1183" y="695"/>
                  </a:lnTo>
                  <a:lnTo>
                    <a:pt x="1176" y="732"/>
                  </a:lnTo>
                  <a:lnTo>
                    <a:pt x="1163" y="772"/>
                  </a:lnTo>
                  <a:lnTo>
                    <a:pt x="1151" y="807"/>
                  </a:lnTo>
                  <a:lnTo>
                    <a:pt x="1135" y="838"/>
                  </a:lnTo>
                  <a:lnTo>
                    <a:pt x="1111" y="878"/>
                  </a:lnTo>
                  <a:lnTo>
                    <a:pt x="1081" y="922"/>
                  </a:lnTo>
                  <a:lnTo>
                    <a:pt x="1050" y="958"/>
                  </a:lnTo>
                  <a:lnTo>
                    <a:pt x="1024" y="988"/>
                  </a:lnTo>
                  <a:lnTo>
                    <a:pt x="990" y="1018"/>
                  </a:lnTo>
                  <a:lnTo>
                    <a:pt x="958" y="1042"/>
                  </a:lnTo>
                  <a:lnTo>
                    <a:pt x="921" y="1069"/>
                  </a:lnTo>
                  <a:lnTo>
                    <a:pt x="874" y="1102"/>
                  </a:lnTo>
                  <a:lnTo>
                    <a:pt x="829" y="1126"/>
                  </a:lnTo>
                  <a:lnTo>
                    <a:pt x="778" y="1153"/>
                  </a:lnTo>
                  <a:lnTo>
                    <a:pt x="673" y="1192"/>
                  </a:lnTo>
                  <a:lnTo>
                    <a:pt x="585" y="1216"/>
                  </a:lnTo>
                  <a:lnTo>
                    <a:pt x="492" y="1234"/>
                  </a:lnTo>
                  <a:lnTo>
                    <a:pt x="417" y="1243"/>
                  </a:lnTo>
                  <a:lnTo>
                    <a:pt x="321" y="1249"/>
                  </a:lnTo>
                  <a:lnTo>
                    <a:pt x="321" y="1342"/>
                  </a:lnTo>
                  <a:lnTo>
                    <a:pt x="0" y="1129"/>
                  </a:lnTo>
                  <a:lnTo>
                    <a:pt x="325" y="913"/>
                  </a:lnTo>
                  <a:lnTo>
                    <a:pt x="324" y="1009"/>
                  </a:lnTo>
                  <a:lnTo>
                    <a:pt x="420" y="1003"/>
                  </a:lnTo>
                  <a:lnTo>
                    <a:pt x="492" y="991"/>
                  </a:lnTo>
                  <a:lnTo>
                    <a:pt x="567" y="973"/>
                  </a:lnTo>
                  <a:lnTo>
                    <a:pt x="673" y="934"/>
                  </a:lnTo>
                  <a:lnTo>
                    <a:pt x="722" y="908"/>
                  </a:lnTo>
                  <a:lnTo>
                    <a:pt x="769" y="880"/>
                  </a:lnTo>
                  <a:lnTo>
                    <a:pt x="808" y="848"/>
                  </a:lnTo>
                  <a:lnTo>
                    <a:pt x="847" y="817"/>
                  </a:lnTo>
                  <a:lnTo>
                    <a:pt x="878" y="786"/>
                  </a:lnTo>
                  <a:lnTo>
                    <a:pt x="904" y="753"/>
                  </a:lnTo>
                  <a:lnTo>
                    <a:pt x="933" y="714"/>
                  </a:lnTo>
                  <a:lnTo>
                    <a:pt x="958" y="669"/>
                  </a:lnTo>
                  <a:lnTo>
                    <a:pt x="976" y="627"/>
                  </a:lnTo>
                  <a:lnTo>
                    <a:pt x="985" y="588"/>
                  </a:lnTo>
                  <a:lnTo>
                    <a:pt x="994" y="540"/>
                  </a:lnTo>
                  <a:lnTo>
                    <a:pt x="995" y="494"/>
                  </a:lnTo>
                  <a:lnTo>
                    <a:pt x="993" y="462"/>
                  </a:lnTo>
                  <a:lnTo>
                    <a:pt x="988" y="428"/>
                  </a:lnTo>
                  <a:lnTo>
                    <a:pt x="976" y="387"/>
                  </a:lnTo>
                  <a:lnTo>
                    <a:pt x="961" y="348"/>
                  </a:lnTo>
                  <a:lnTo>
                    <a:pt x="943" y="311"/>
                  </a:lnTo>
                  <a:lnTo>
                    <a:pt x="919" y="275"/>
                  </a:lnTo>
                  <a:lnTo>
                    <a:pt x="876" y="222"/>
                  </a:lnTo>
                  <a:lnTo>
                    <a:pt x="840" y="187"/>
                  </a:lnTo>
                  <a:lnTo>
                    <a:pt x="793" y="150"/>
                  </a:lnTo>
                  <a:lnTo>
                    <a:pt x="745" y="118"/>
                  </a:lnTo>
                  <a:lnTo>
                    <a:pt x="709" y="97"/>
                  </a:lnTo>
                  <a:lnTo>
                    <a:pt x="666" y="76"/>
                  </a:lnTo>
                  <a:lnTo>
                    <a:pt x="625" y="60"/>
                  </a:lnTo>
                  <a:lnTo>
                    <a:pt x="591" y="48"/>
                  </a:lnTo>
                  <a:lnTo>
                    <a:pt x="558" y="37"/>
                  </a:lnTo>
                  <a:lnTo>
                    <a:pt x="516" y="28"/>
                  </a:lnTo>
                  <a:lnTo>
                    <a:pt x="478" y="22"/>
                  </a:lnTo>
                  <a:lnTo>
                    <a:pt x="426" y="13"/>
                  </a:lnTo>
                  <a:lnTo>
                    <a:pt x="294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520" y="5595840"/>
              <a:ext cx="1893960" cy="2132280"/>
            </a:xfrm>
            <a:custGeom>
              <a:avLst/>
              <a:gdLst/>
              <a:ahLst/>
              <a:rect l="l" t="t" r="r" b="b"/>
              <a:pathLst>
                <a:path w="1193" h="1343">
                  <a:moveTo>
                    <a:pt x="898" y="0"/>
                  </a:moveTo>
                  <a:lnTo>
                    <a:pt x="757" y="3"/>
                  </a:lnTo>
                  <a:lnTo>
                    <a:pt x="709" y="8"/>
                  </a:lnTo>
                  <a:lnTo>
                    <a:pt x="650" y="18"/>
                  </a:lnTo>
                  <a:lnTo>
                    <a:pt x="605" y="26"/>
                  </a:lnTo>
                  <a:lnTo>
                    <a:pt x="559" y="38"/>
                  </a:lnTo>
                  <a:lnTo>
                    <a:pt x="514" y="52"/>
                  </a:lnTo>
                  <a:lnTo>
                    <a:pt x="474" y="67"/>
                  </a:lnTo>
                  <a:lnTo>
                    <a:pt x="426" y="86"/>
                  </a:lnTo>
                  <a:lnTo>
                    <a:pt x="368" y="113"/>
                  </a:lnTo>
                  <a:lnTo>
                    <a:pt x="323" y="138"/>
                  </a:lnTo>
                  <a:lnTo>
                    <a:pt x="279" y="166"/>
                  </a:lnTo>
                  <a:lnTo>
                    <a:pt x="249" y="189"/>
                  </a:lnTo>
                  <a:lnTo>
                    <a:pt x="214" y="216"/>
                  </a:lnTo>
                  <a:lnTo>
                    <a:pt x="189" y="237"/>
                  </a:lnTo>
                  <a:lnTo>
                    <a:pt x="162" y="267"/>
                  </a:lnTo>
                  <a:lnTo>
                    <a:pt x="138" y="294"/>
                  </a:lnTo>
                  <a:lnTo>
                    <a:pt x="114" y="324"/>
                  </a:lnTo>
                  <a:lnTo>
                    <a:pt x="96" y="348"/>
                  </a:lnTo>
                  <a:lnTo>
                    <a:pt x="73" y="382"/>
                  </a:lnTo>
                  <a:lnTo>
                    <a:pt x="51" y="420"/>
                  </a:lnTo>
                  <a:lnTo>
                    <a:pt x="36" y="457"/>
                  </a:lnTo>
                  <a:lnTo>
                    <a:pt x="24" y="489"/>
                  </a:lnTo>
                  <a:lnTo>
                    <a:pt x="13" y="526"/>
                  </a:lnTo>
                  <a:lnTo>
                    <a:pt x="4" y="565"/>
                  </a:lnTo>
                  <a:lnTo>
                    <a:pt x="0" y="616"/>
                  </a:lnTo>
                  <a:lnTo>
                    <a:pt x="3" y="659"/>
                  </a:lnTo>
                  <a:lnTo>
                    <a:pt x="9" y="695"/>
                  </a:lnTo>
                  <a:lnTo>
                    <a:pt x="16" y="732"/>
                  </a:lnTo>
                  <a:lnTo>
                    <a:pt x="29" y="772"/>
                  </a:lnTo>
                  <a:lnTo>
                    <a:pt x="41" y="807"/>
                  </a:lnTo>
                  <a:lnTo>
                    <a:pt x="57" y="838"/>
                  </a:lnTo>
                  <a:lnTo>
                    <a:pt x="81" y="878"/>
                  </a:lnTo>
                  <a:lnTo>
                    <a:pt x="111" y="922"/>
                  </a:lnTo>
                  <a:lnTo>
                    <a:pt x="142" y="958"/>
                  </a:lnTo>
                  <a:lnTo>
                    <a:pt x="168" y="988"/>
                  </a:lnTo>
                  <a:lnTo>
                    <a:pt x="202" y="1018"/>
                  </a:lnTo>
                  <a:lnTo>
                    <a:pt x="234" y="1042"/>
                  </a:lnTo>
                  <a:lnTo>
                    <a:pt x="271" y="1069"/>
                  </a:lnTo>
                  <a:lnTo>
                    <a:pt x="318" y="1102"/>
                  </a:lnTo>
                  <a:lnTo>
                    <a:pt x="363" y="1126"/>
                  </a:lnTo>
                  <a:lnTo>
                    <a:pt x="414" y="1153"/>
                  </a:lnTo>
                  <a:lnTo>
                    <a:pt x="519" y="1192"/>
                  </a:lnTo>
                  <a:lnTo>
                    <a:pt x="607" y="1216"/>
                  </a:lnTo>
                  <a:lnTo>
                    <a:pt x="700" y="1234"/>
                  </a:lnTo>
                  <a:lnTo>
                    <a:pt x="775" y="1243"/>
                  </a:lnTo>
                  <a:lnTo>
                    <a:pt x="871" y="1249"/>
                  </a:lnTo>
                  <a:lnTo>
                    <a:pt x="871" y="1342"/>
                  </a:lnTo>
                  <a:lnTo>
                    <a:pt x="1192" y="1129"/>
                  </a:lnTo>
                  <a:lnTo>
                    <a:pt x="867" y="913"/>
                  </a:lnTo>
                  <a:lnTo>
                    <a:pt x="868" y="1009"/>
                  </a:lnTo>
                  <a:lnTo>
                    <a:pt x="772" y="1003"/>
                  </a:lnTo>
                  <a:lnTo>
                    <a:pt x="700" y="991"/>
                  </a:lnTo>
                  <a:lnTo>
                    <a:pt x="625" y="973"/>
                  </a:lnTo>
                  <a:lnTo>
                    <a:pt x="519" y="934"/>
                  </a:lnTo>
                  <a:lnTo>
                    <a:pt x="470" y="908"/>
                  </a:lnTo>
                  <a:lnTo>
                    <a:pt x="423" y="880"/>
                  </a:lnTo>
                  <a:lnTo>
                    <a:pt x="384" y="848"/>
                  </a:lnTo>
                  <a:lnTo>
                    <a:pt x="345" y="817"/>
                  </a:lnTo>
                  <a:lnTo>
                    <a:pt x="314" y="787"/>
                  </a:lnTo>
                  <a:lnTo>
                    <a:pt x="288" y="753"/>
                  </a:lnTo>
                  <a:lnTo>
                    <a:pt x="259" y="714"/>
                  </a:lnTo>
                  <a:lnTo>
                    <a:pt x="234" y="669"/>
                  </a:lnTo>
                  <a:lnTo>
                    <a:pt x="216" y="627"/>
                  </a:lnTo>
                  <a:lnTo>
                    <a:pt x="207" y="588"/>
                  </a:lnTo>
                  <a:lnTo>
                    <a:pt x="198" y="540"/>
                  </a:lnTo>
                  <a:lnTo>
                    <a:pt x="197" y="494"/>
                  </a:lnTo>
                  <a:lnTo>
                    <a:pt x="199" y="462"/>
                  </a:lnTo>
                  <a:lnTo>
                    <a:pt x="204" y="428"/>
                  </a:lnTo>
                  <a:lnTo>
                    <a:pt x="216" y="387"/>
                  </a:lnTo>
                  <a:lnTo>
                    <a:pt x="231" y="348"/>
                  </a:lnTo>
                  <a:lnTo>
                    <a:pt x="249" y="311"/>
                  </a:lnTo>
                  <a:lnTo>
                    <a:pt x="273" y="275"/>
                  </a:lnTo>
                  <a:lnTo>
                    <a:pt x="316" y="222"/>
                  </a:lnTo>
                  <a:lnTo>
                    <a:pt x="352" y="187"/>
                  </a:lnTo>
                  <a:lnTo>
                    <a:pt x="399" y="150"/>
                  </a:lnTo>
                  <a:lnTo>
                    <a:pt x="447" y="118"/>
                  </a:lnTo>
                  <a:lnTo>
                    <a:pt x="483" y="97"/>
                  </a:lnTo>
                  <a:lnTo>
                    <a:pt x="526" y="76"/>
                  </a:lnTo>
                  <a:lnTo>
                    <a:pt x="567" y="60"/>
                  </a:lnTo>
                  <a:lnTo>
                    <a:pt x="600" y="48"/>
                  </a:lnTo>
                  <a:lnTo>
                    <a:pt x="634" y="37"/>
                  </a:lnTo>
                  <a:lnTo>
                    <a:pt x="676" y="28"/>
                  </a:lnTo>
                  <a:lnTo>
                    <a:pt x="714" y="22"/>
                  </a:lnTo>
                  <a:lnTo>
                    <a:pt x="766" y="13"/>
                  </a:lnTo>
                  <a:lnTo>
                    <a:pt x="89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6920" y="3008160"/>
              <a:ext cx="1893960" cy="2132280"/>
            </a:xfrm>
            <a:custGeom>
              <a:avLst/>
              <a:gdLst/>
              <a:ahLst/>
              <a:rect l="l" t="t" r="r" b="b"/>
              <a:pathLst>
                <a:path w="1193" h="1343">
                  <a:moveTo>
                    <a:pt x="898" y="1342"/>
                  </a:moveTo>
                  <a:lnTo>
                    <a:pt x="757" y="1339"/>
                  </a:lnTo>
                  <a:lnTo>
                    <a:pt x="709" y="1334"/>
                  </a:lnTo>
                  <a:lnTo>
                    <a:pt x="650" y="1324"/>
                  </a:lnTo>
                  <a:lnTo>
                    <a:pt x="604" y="1316"/>
                  </a:lnTo>
                  <a:lnTo>
                    <a:pt x="559" y="1304"/>
                  </a:lnTo>
                  <a:lnTo>
                    <a:pt x="514" y="1290"/>
                  </a:lnTo>
                  <a:lnTo>
                    <a:pt x="474" y="1275"/>
                  </a:lnTo>
                  <a:lnTo>
                    <a:pt x="426" y="1256"/>
                  </a:lnTo>
                  <a:lnTo>
                    <a:pt x="368" y="1229"/>
                  </a:lnTo>
                  <a:lnTo>
                    <a:pt x="323" y="1204"/>
                  </a:lnTo>
                  <a:lnTo>
                    <a:pt x="279" y="1176"/>
                  </a:lnTo>
                  <a:lnTo>
                    <a:pt x="249" y="1153"/>
                  </a:lnTo>
                  <a:lnTo>
                    <a:pt x="214" y="1126"/>
                  </a:lnTo>
                  <a:lnTo>
                    <a:pt x="189" y="1105"/>
                  </a:lnTo>
                  <a:lnTo>
                    <a:pt x="162" y="1075"/>
                  </a:lnTo>
                  <a:lnTo>
                    <a:pt x="138" y="1048"/>
                  </a:lnTo>
                  <a:lnTo>
                    <a:pt x="114" y="1018"/>
                  </a:lnTo>
                  <a:lnTo>
                    <a:pt x="96" y="994"/>
                  </a:lnTo>
                  <a:lnTo>
                    <a:pt x="73" y="960"/>
                  </a:lnTo>
                  <a:lnTo>
                    <a:pt x="51" y="922"/>
                  </a:lnTo>
                  <a:lnTo>
                    <a:pt x="36" y="885"/>
                  </a:lnTo>
                  <a:lnTo>
                    <a:pt x="24" y="853"/>
                  </a:lnTo>
                  <a:lnTo>
                    <a:pt x="13" y="816"/>
                  </a:lnTo>
                  <a:lnTo>
                    <a:pt x="4" y="777"/>
                  </a:lnTo>
                  <a:lnTo>
                    <a:pt x="0" y="726"/>
                  </a:lnTo>
                  <a:lnTo>
                    <a:pt x="3" y="683"/>
                  </a:lnTo>
                  <a:lnTo>
                    <a:pt x="9" y="647"/>
                  </a:lnTo>
                  <a:lnTo>
                    <a:pt x="16" y="610"/>
                  </a:lnTo>
                  <a:lnTo>
                    <a:pt x="29" y="570"/>
                  </a:lnTo>
                  <a:lnTo>
                    <a:pt x="41" y="535"/>
                  </a:lnTo>
                  <a:lnTo>
                    <a:pt x="57" y="504"/>
                  </a:lnTo>
                  <a:lnTo>
                    <a:pt x="81" y="464"/>
                  </a:lnTo>
                  <a:lnTo>
                    <a:pt x="111" y="420"/>
                  </a:lnTo>
                  <a:lnTo>
                    <a:pt x="142" y="384"/>
                  </a:lnTo>
                  <a:lnTo>
                    <a:pt x="168" y="354"/>
                  </a:lnTo>
                  <a:lnTo>
                    <a:pt x="202" y="324"/>
                  </a:lnTo>
                  <a:lnTo>
                    <a:pt x="234" y="300"/>
                  </a:lnTo>
                  <a:lnTo>
                    <a:pt x="271" y="273"/>
                  </a:lnTo>
                  <a:lnTo>
                    <a:pt x="318" y="240"/>
                  </a:lnTo>
                  <a:lnTo>
                    <a:pt x="363" y="216"/>
                  </a:lnTo>
                  <a:lnTo>
                    <a:pt x="414" y="189"/>
                  </a:lnTo>
                  <a:lnTo>
                    <a:pt x="519" y="150"/>
                  </a:lnTo>
                  <a:lnTo>
                    <a:pt x="606" y="126"/>
                  </a:lnTo>
                  <a:lnTo>
                    <a:pt x="700" y="108"/>
                  </a:lnTo>
                  <a:lnTo>
                    <a:pt x="775" y="99"/>
                  </a:lnTo>
                  <a:lnTo>
                    <a:pt x="871" y="93"/>
                  </a:lnTo>
                  <a:lnTo>
                    <a:pt x="871" y="0"/>
                  </a:lnTo>
                  <a:lnTo>
                    <a:pt x="1192" y="213"/>
                  </a:lnTo>
                  <a:lnTo>
                    <a:pt x="867" y="429"/>
                  </a:lnTo>
                  <a:lnTo>
                    <a:pt x="868" y="333"/>
                  </a:lnTo>
                  <a:lnTo>
                    <a:pt x="772" y="339"/>
                  </a:lnTo>
                  <a:lnTo>
                    <a:pt x="700" y="351"/>
                  </a:lnTo>
                  <a:lnTo>
                    <a:pt x="625" y="369"/>
                  </a:lnTo>
                  <a:lnTo>
                    <a:pt x="519" y="408"/>
                  </a:lnTo>
                  <a:lnTo>
                    <a:pt x="470" y="434"/>
                  </a:lnTo>
                  <a:lnTo>
                    <a:pt x="423" y="462"/>
                  </a:lnTo>
                  <a:lnTo>
                    <a:pt x="384" y="494"/>
                  </a:lnTo>
                  <a:lnTo>
                    <a:pt x="345" y="525"/>
                  </a:lnTo>
                  <a:lnTo>
                    <a:pt x="314" y="555"/>
                  </a:lnTo>
                  <a:lnTo>
                    <a:pt x="288" y="589"/>
                  </a:lnTo>
                  <a:lnTo>
                    <a:pt x="259" y="628"/>
                  </a:lnTo>
                  <a:lnTo>
                    <a:pt x="234" y="673"/>
                  </a:lnTo>
                  <a:lnTo>
                    <a:pt x="216" y="715"/>
                  </a:lnTo>
                  <a:lnTo>
                    <a:pt x="207" y="754"/>
                  </a:lnTo>
                  <a:lnTo>
                    <a:pt x="198" y="802"/>
                  </a:lnTo>
                  <a:lnTo>
                    <a:pt x="197" y="848"/>
                  </a:lnTo>
                  <a:lnTo>
                    <a:pt x="199" y="880"/>
                  </a:lnTo>
                  <a:lnTo>
                    <a:pt x="204" y="914"/>
                  </a:lnTo>
                  <a:lnTo>
                    <a:pt x="216" y="955"/>
                  </a:lnTo>
                  <a:lnTo>
                    <a:pt x="231" y="994"/>
                  </a:lnTo>
                  <a:lnTo>
                    <a:pt x="249" y="1031"/>
                  </a:lnTo>
                  <a:lnTo>
                    <a:pt x="273" y="1067"/>
                  </a:lnTo>
                  <a:lnTo>
                    <a:pt x="316" y="1120"/>
                  </a:lnTo>
                  <a:lnTo>
                    <a:pt x="352" y="1155"/>
                  </a:lnTo>
                  <a:lnTo>
                    <a:pt x="399" y="1192"/>
                  </a:lnTo>
                  <a:lnTo>
                    <a:pt x="447" y="1224"/>
                  </a:lnTo>
                  <a:lnTo>
                    <a:pt x="483" y="1245"/>
                  </a:lnTo>
                  <a:lnTo>
                    <a:pt x="526" y="1266"/>
                  </a:lnTo>
                  <a:lnTo>
                    <a:pt x="567" y="1282"/>
                  </a:lnTo>
                  <a:lnTo>
                    <a:pt x="600" y="1294"/>
                  </a:lnTo>
                  <a:lnTo>
                    <a:pt x="634" y="1305"/>
                  </a:lnTo>
                  <a:lnTo>
                    <a:pt x="676" y="1314"/>
                  </a:lnTo>
                  <a:lnTo>
                    <a:pt x="714" y="1320"/>
                  </a:lnTo>
                  <a:lnTo>
                    <a:pt x="766" y="1329"/>
                  </a:lnTo>
                  <a:lnTo>
                    <a:pt x="898" y="134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Intersection of Early Childhood and Gifted Education</a:t>
            </a:r>
            <a:endParaRPr b="0" lang="en-US" sz="32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arly Child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achers of young children more like guides or facilit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ildren select many of their own activities (manipulated enviro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ildren work individually or in small, informal groups most of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ild-centered,” individually focused curric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ifted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ss strengths of each child and build on this 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terdisciplinary thematic curriculum that would offer a depth of experience that would challenge young children on many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ffered same basic skills at a differen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75"/>
              </a:spcBef>
              <a:buClr>
                <a:srgbClr val="99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terest-centere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Please Sign Your Name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8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 your name under the category that matches your answer.  Which do you think has the biggest ti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90720" y="3505320"/>
          <a:ext cx="4714920" cy="40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4714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Measuring Tire with Chain Links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31800" y="2540160"/>
            <a:ext cx="3792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582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4"/>
                </a:solidFill>
                <a:latin typeface="Times New Roman"/>
              </a:rPr>
              <a:t>The Project-Approach</a:t>
            </a:r>
            <a:br>
              <a:rPr sz="4400"/>
            </a:br>
            <a:r>
              <a:rPr b="0" lang="en-US" sz="1800" spc="-1" strike="noStrike">
                <a:solidFill>
                  <a:srgbClr val="000004"/>
                </a:solidFill>
                <a:latin typeface="Times New Roman"/>
              </a:rPr>
              <a:t>Katz &amp; Chard, 2000</a:t>
            </a:r>
            <a:endParaRPr b="0" lang="en-US" sz="18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I - To Assess What They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alls past exper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resents memories of 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II - To Acquire New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first-hand exper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sue data gat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dict, theorize, hypothe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ulate new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III - To Share What They Have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re understanding of 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63435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Features of Project Work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University Primary School</a:t>
            </a:r>
            <a:endParaRPr b="0" lang="en-US" sz="36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filiated with the Department of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ty of Illinois at Urbana-Champa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 students ages 3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3/4 year classroo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K/1 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 Teacher, 1 or 2 assi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Process: 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ent Questionnaires, Site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-6 Samples of “work” (i.e., conversations, photograph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fted Education - The New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ing strengths and tal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99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aging children’s mind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4"/>
                </a:solidFill>
                <a:latin typeface="Times New Roman"/>
              </a:rPr>
              <a:t>Curriculum Overview</a:t>
            </a:r>
            <a:endParaRPr b="0" lang="en-US" sz="4400" spc="-1" strike="noStrike">
              <a:solidFill>
                <a:srgbClr val="0000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y Time and Project-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and Emotiona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ation and Problem Solv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Arts and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s and Aesth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8T15:40:07Z</dcterms:created>
  <dc:creator>Nancy Hertzog</dc:creator>
  <dc:description/>
  <dc:language>en-US</dc:language>
  <cp:lastModifiedBy>UIUC</cp:lastModifiedBy>
  <cp:lastPrinted>2000-10-29T20:23:44Z</cp:lastPrinted>
  <dcterms:modified xsi:type="dcterms:W3CDTF">2001-06-21T18:31:58Z</dcterms:modified>
  <cp:revision>76</cp:revision>
  <dc:subject/>
  <dc:title>No Slide Title</dc:title>
</cp:coreProperties>
</file>