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2640" y="5304240"/>
            <a:ext cx="53722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26215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5560" y="2438280"/>
            <a:ext cx="26215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2640" y="5304240"/>
            <a:ext cx="26215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95560" y="5304240"/>
            <a:ext cx="26215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1729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59200" y="2438280"/>
            <a:ext cx="1729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776120" y="2438280"/>
            <a:ext cx="1729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2640" y="5304240"/>
            <a:ext cx="1729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59200" y="5304240"/>
            <a:ext cx="1729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776120" y="5304240"/>
            <a:ext cx="1729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26215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560" y="2438280"/>
            <a:ext cx="26215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53722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26215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560" y="2438280"/>
            <a:ext cx="26215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2640" y="5304240"/>
            <a:ext cx="26215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26215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95560" y="2438280"/>
            <a:ext cx="26215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95560" y="5304240"/>
            <a:ext cx="26215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26215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95560" y="2438280"/>
            <a:ext cx="26215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2640" y="5304240"/>
            <a:ext cx="53722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0"/>
            <a:ext cx="6672240" cy="9126360"/>
            <a:chOff x="177840" y="0"/>
            <a:chExt cx="6672240" cy="9126360"/>
          </a:xfrm>
        </p:grpSpPr>
        <p:sp>
          <p:nvSpPr>
            <p:cNvPr id="1" name=""/>
            <p:cNvSpPr/>
            <p:nvPr/>
          </p:nvSpPr>
          <p:spPr>
            <a:xfrm>
              <a:off x="177840" y="0"/>
              <a:ext cx="177840" cy="91263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d4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0120" y="0"/>
              <a:ext cx="279360" cy="62229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d4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41200" y="0"/>
              <a:ext cx="812880" cy="44704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d4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0"/>
              <a:ext cx="228600" cy="5181480"/>
            </a:xfrm>
            <a:prstGeom prst="rect">
              <a:avLst/>
            </a:pr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d4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44600" y="1955880"/>
              <a:ext cx="393480" cy="1625400"/>
            </a:xfrm>
            <a:prstGeom prst="rect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d4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1879560"/>
              <a:ext cx="6469200" cy="1778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d4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84320" y="1879560"/>
              <a:ext cx="6659280" cy="0"/>
            </a:xfrm>
            <a:prstGeom prst="line">
              <a:avLst/>
            </a:prstGeom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d4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Second Outline Level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Third Outline Level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Fourth Outline Level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Fifth Outline Level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Sixth Outline Level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Seventh Outline Level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537228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Times New Roman"/>
              </a:rPr>
              <a:t>Challenging Young Learners Using the Project- Approach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3581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Nancy B. Hertzog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Marjorie M. Klein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University Primary School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University of Illinois at Urbana-Champaign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d4"/>
                </a:solidFill>
                <a:latin typeface="Arial"/>
              </a:rPr>
              <a:t>Presented at the 2000 IAGC Fifth Convention </a:t>
            </a:r>
            <a:endParaRPr b="1" i="1" lang="en-US" sz="16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d4"/>
                </a:solidFill>
                <a:latin typeface="Arial"/>
              </a:rPr>
              <a:t>Chicago, IL</a:t>
            </a:r>
            <a:endParaRPr b="1" i="1" lang="en-US" sz="1600" spc="-1" strike="noStrike">
              <a:solidFill>
                <a:srgbClr val="0000d4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d4"/>
                </a:solidFill>
                <a:latin typeface="Arial"/>
              </a:rPr>
              <a:t>February 7, 2000</a:t>
            </a:r>
            <a:endParaRPr b="1" i="1" lang="en-US" sz="16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Topics in K/1 Classrooms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 Antiqua"/>
              </a:rPr>
              <a:t>K/1 Gerty Drive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Turtle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Weather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Shadows/Light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Corn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Snack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Bicycle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Measusrement in the Neighborhood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Change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 Antiqua"/>
              </a:rPr>
              <a:t>K/1 Colonel Wolfe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Bread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T.V.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Food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Chickens/Embryos/Chickscope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Invention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Family Tradition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Neighborhood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Project Approach</a:t>
            </a:r>
            <a:br>
              <a:rPr sz="3600"/>
            </a:b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(Katz &amp; Chard, 1994)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Phase I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Recalls past experience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Represents memories of topic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Phase II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New first-hand experience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Pursue data gathering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Predict, theorize, hypothesize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Formulate new question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Phase III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Share understanding of topic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Display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Features of Project Work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Group Discussion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2..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Field Work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Representation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Investigation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Display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Gifted Education Emphasizes. . .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leadership training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creativity training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individual and small group communication skill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critical thinking skill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decision-making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affective education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problem solving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research skill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subject area skill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encourage development of product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The Role of Challenge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The ability to challenge children intellectually is the critical ingredient that differentiates the ordinary classroom from the distringuished one.”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(Feinburg &amp; Mindess, 1994, p. 83)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Role of the Teacher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The educator’s role being to present children with challenges that are appropriately confounding, and to provide them with the opportunity to wrestle with these challenges in active, meaningful ways.”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(Feinburg &amp; Mindess, 1994, p. 89)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Challenge -In Whose Eyes?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Children Themselve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Other Children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Parent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Teacher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University Primary School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Affiliated with the Department of Special Education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University of Illinois at Urbana-Champaign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75 students ages 3-7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1 3/4 year classroom; 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2 K/1 classroom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Head Teacher, 1 or 2 assistant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17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Application Process:  Portfolio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Parent Questionnaires, Site Visit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3-6 Samples of “work” (i.e., conversations, photographs, etc.)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17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Gifted Education - The New Paradigm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Developing strengths and talent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Engaging children’s minds”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What’s Challenging in an Early Childhood Classroom?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Emotionally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Socially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Academically/Intellectually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Physically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d4"/>
                </a:solidFill>
                <a:latin typeface="Arial"/>
              </a:rPr>
              <a:t>Representing a Broad View of Curriculum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Creating Challenge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Provide Opportunities for Thinking, Doing, and Feeling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Develop Dispositions to Inquire, Learn, and Persist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Allow Curriculum to Emerge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Successful Teachers. . .*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Develop engaging tasks that give students meaningful work to do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Design tasks to allow students choices and different entry points into the work.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Two-way pedagogies” to find out what students are thinking, puzzling over, feeling, and struggling with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skillful discussion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journals &amp; learning logs 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interview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Arial"/>
              </a:rPr>
              <a:t>student presentation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Successful Teachers. . .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Assess students to identify their strengths and learning approaches as well as their need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Scaffold process of successive conversations, steps, and learning experiences that take students from their different starting ponts to a proficient performance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Pay attention to developing student confidence, motivation, and effort, and to making students feel connected and capable in school.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d4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4"/>
                </a:solidFill>
                <a:latin typeface="Arial"/>
              </a:rPr>
              <a:t>*Darling-Hammond, L. (Aug./Sept. 1996).  The right to learn and the advancement of teaching:  Research, policy, and practice for democratic education.  </a:t>
            </a:r>
            <a:r>
              <a:rPr b="1" lang="en-US" sz="1200" spc="-1" strike="noStrike" u="sng">
                <a:solidFill>
                  <a:srgbClr val="0000d4"/>
                </a:solidFill>
                <a:uFillTx/>
                <a:latin typeface="Arial"/>
              </a:rPr>
              <a:t>Educational Researcher,</a:t>
            </a:r>
            <a:r>
              <a:rPr b="1" lang="en-US" sz="1200" spc="-1" strike="noStrike">
                <a:solidFill>
                  <a:srgbClr val="0000d4"/>
                </a:solidFill>
                <a:latin typeface="Arial"/>
              </a:rPr>
              <a:t> p 5-17.</a:t>
            </a:r>
            <a:endParaRPr b="1" i="1" lang="en-US" sz="12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Curriculum Overview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Activity Time and Project Work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Social and Emotional Growth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Numeration and Problem Solving Skill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Language Art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Arial"/>
              </a:rPr>
              <a:t>Arts and Aesthetics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53722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0806"/>
                </a:solidFill>
                <a:latin typeface="Times New Roman"/>
              </a:rPr>
              <a:t>Topics Uncovered in Preschool</a:t>
            </a:r>
            <a:endParaRPr b="1" i="1" lang="en-US" sz="3600" spc="-1" strike="noStrike">
              <a:solidFill>
                <a:srgbClr val="dd08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5372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dd0806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d4"/>
                </a:solidFill>
                <a:latin typeface="Book Antiqua"/>
              </a:rPr>
              <a:t>Preschool</a:t>
            </a: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Turtles (which led to Animals &amp;  Insects)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Paper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Bu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Weaving/Wool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Homes/ Habitat/Otter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dd080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d4"/>
                </a:solidFill>
                <a:latin typeface="Book Antiqua"/>
              </a:rPr>
              <a:t>Vehicles</a:t>
            </a: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d4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d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04:00:01Z</dcterms:created>
  <dc:creator>Nancy Hertzog</dc:creator>
  <dc:description/>
  <dc:language>en-US</dc:language>
  <cp:lastModifiedBy>Nancy Hertzog</cp:lastModifiedBy>
  <dcterms:modified xsi:type="dcterms:W3CDTF">2000-09-26T04:11:11Z</dcterms:modified>
  <cp:revision>1</cp:revision>
  <dc:subject/>
  <dc:title>Challenging Young Learners Using the Project- Approach</dc:title>
</cp:coreProperties>
</file>