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81A-9560-4B54-9371-5D7BB510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50400" y="550764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5C2-2A27-4738-B1D9-E0122CE5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50400" y="5507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37680" y="5507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C69-0B64-4885-92B7-5C8A796F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2140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920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5040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2140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8920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D67-EE3E-4CA2-AAD2-96B4724D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FC05-F44E-41F8-A36B-BDF97DAA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5040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A13E-F315-4B9B-BC73-4EBD33A6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5D5-272D-44EC-A4B1-87099FED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B981-0F9C-4596-B43D-3A476BE6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C812-4730-4CAF-9CF0-9E72D012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14440" y="203040"/>
            <a:ext cx="58291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8E97-81F5-48B9-A2AD-5AB20788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50400" y="5507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4F48-6862-416C-A2FD-E17564B6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5040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3AC-5248-4073-8A9F-7DE83431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37680" y="5507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9B9A-E1EE-44C3-B115-544BF62D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50400" y="550764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E230-DF4C-41E5-91B6-E6E31B1A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50400" y="550764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C9A6-9DE5-43F1-9236-5CC86357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50400" y="5507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37680" y="5507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9D17-2FD3-466F-A32B-B8B8A834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92140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920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5040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92140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8920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A875-6D1E-48AD-A49E-F6A21DFB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4A8-1267-4425-9E10-BD01BCB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2E5-0BDE-45A1-A621-B32C322C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FAA-A2A9-422B-87F5-99B702FC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4440" y="203040"/>
            <a:ext cx="58291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F1D-C611-435B-B5DC-65CEF413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50400" y="5507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A0A-67F2-4FAB-B690-F198161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37680" y="550764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59C-9E3B-4EBA-AF62-7851D8D9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040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37680" y="2641680"/>
            <a:ext cx="28447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0400" y="5507640"/>
            <a:ext cx="5829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8A3-4C46-494F-8FAA-1B7F725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1199880" y="0"/>
              <a:ext cx="5657760" cy="9143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199880" cy="914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6858000" cy="253980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5040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99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1420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372280" y="85341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039D-AAF9-4BD8-B275-EFF55E19C56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46" name=""/>
            <p:cNvSpPr/>
            <p:nvPr/>
          </p:nvSpPr>
          <p:spPr>
            <a:xfrm>
              <a:off x="1199880" y="0"/>
              <a:ext cx="5657760" cy="9143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199880" cy="914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6858000" cy="507960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19303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257480" y="85341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97144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5233-DED8-4CA4-8088-712D7D06BDD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allenging Mathematics: 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Collection in Kindergar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260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ncy B. Hertz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jorie M. Kl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y Primary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iversity of Illinois at Urbana-Champa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tent Stran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2666880"/>
            <a:ext cx="483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eration and 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 and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asures and Referenc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les and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als for To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numeration and problem-solving ideas that challenge young learners while pursuing project investig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nstrate how math is integrated into other curricular 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e participants in problem-solvi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iversity Primary Scho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266688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filiated with the Department of Special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versity of Illinois at Urbana-Champaig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5 Students ages 3-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3/4 year old classro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K/1 classroo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 Teacher, 1 or 2 assista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lication Process:  Portfol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ent Questionna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te Vis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Examples of Children’s “work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fted Education - The New Paradig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ing strengths and tal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gaging children’s minds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Features of “Everyday Mathematic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74320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blem solving about everyday sit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eloping readiness through hands-on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ablishing links between past experiences and explorations of new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aring ideas through discu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operative learning through partner and small-group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actice through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88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ities Imbedded in Projec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14680" y="274320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ify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p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ter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lem-Sol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20304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ject Approach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Katz &amp; Chard, 199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alls past experi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s memories of a top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irst-hand experi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sue data gath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t, theorize, hypothe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te new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 II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understanding of top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16:58:55Z</dcterms:created>
  <dc:creator>nancy hertzog</dc:creator>
  <dc:description/>
  <dc:language>en-US</dc:language>
  <cp:lastModifiedBy>nhertzog</cp:lastModifiedBy>
  <cp:lastPrinted>2000-02-05T17:10:17Z</cp:lastPrinted>
  <dcterms:modified xsi:type="dcterms:W3CDTF">2000-02-06T01:42:35Z</dcterms:modified>
  <cp:revision>11</cp:revision>
  <dc:subject/>
  <dc:title>Mathematics Integrated Into Project Investigations</dc:title>
</cp:coreProperties>
</file>